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14.gif" ContentType="image/gif"/>
  <Override PartName="/ppt/media/image1.jpeg" ContentType="image/jpeg"/>
  <Override PartName="/ppt/media/image7.jpeg" ContentType="image/jpeg"/>
  <Override PartName="/ppt/media/image11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2.gif" ContentType="image/gif"/>
  <Override PartName="/ppt/media/image8.jpeg" ContentType="image/jpeg"/>
  <Override PartName="/ppt/media/image10.png" ContentType="image/png"/>
  <Override PartName="/ppt/media/image6.jpeg" ContentType="image/jpe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C7999-0465-4568-8C77-85370CB087EC}" type="datetime">
              <a:rPr b="0" lang="ru-RU" sz="1200" spc="-1" strike="noStrike">
                <a:solidFill>
                  <a:srgbClr val="000000"/>
                </a:solidFill>
                <a:latin typeface="Calibri"/>
              </a:rPr>
              <a:t>30.07.26</a:t>
            </a:fld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1036F1DD-646F-4BE3-A90D-7F0B68C12312}" type="datetime12">
              <a:rPr b="0" lang="ru-RU" sz="1200" spc="-1" strike="noStrike">
                <a:solidFill>
                  <a:srgbClr val="000000"/>
                </a:solidFill>
                <a:latin typeface="Calibri"/>
              </a:rPr>
              <a:t>03:19 AM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06585-F68B-42FE-88AE-F517BC0CF6D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F2CDE-E574-4A54-9A37-A293C5CC94D1}" type="slidenum">
              <a:rPr b="0" lang="ru-RU" sz="1200" spc="-1" strike="noStrike">
                <a:solidFill>
                  <a:srgbClr val="8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00000"/>
              </a:solidFill>
              <a:latin typeface="Comic Sans M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2"/>
          <p:cNvSpPr/>
          <p:nvPr/>
        </p:nvSpPr>
        <p:spPr>
          <a:xfrm>
            <a:off x="1003320" y="695160"/>
            <a:ext cx="48499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18DD1-7233-4E02-9C10-A2E0A8647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FC886-E931-4AA8-838B-7B33F5D2D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EF4D5-0AF3-48EA-9497-E6CF95973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DAE63-FE74-4A8D-810A-E10B4E744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38989-08C1-4D29-A567-353054FD7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49BD9-4D63-4D18-BBB0-F87F3E3B4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7D7B4-1A85-47EC-A87C-E909182FE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DBA95-0590-46F9-AFE3-4B22FD7D6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A9A71-647B-4148-A1B3-F24A14025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4966C-C227-425A-B6CB-3D95EA062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264DA-5A7A-4A85-A998-9B98DAA27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827AA-EA25-4DBB-9787-DAD3440A9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8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8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8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c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A53B0-3C3D-4EE2-86D3-24FC0EA3201C}" type="datetime">
              <a:rPr b="0" lang="ru-RU" sz="1200" spc="-1" strike="noStrike">
                <a:solidFill>
                  <a:srgbClr val="ac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c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1F939-7530-4F12-8E99-CA464B0A8F8B}" type="slidenum">
              <a:rPr b="0" lang="ru-RU" sz="1200" spc="-1" strike="noStrike">
                <a:solidFill>
                  <a:srgbClr val="ac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916360" y="765000"/>
            <a:ext cx="5541840" cy="395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Comic Sans MS"/>
              </a:rPr>
              <a:t> </a:t>
            </a:r>
            <a:br>
              <a:rPr sz="4000"/>
            </a:br>
            <a:r>
              <a:rPr b="1" lang="ru-RU" sz="4000" spc="-1" strike="noStrike">
                <a:solidFill>
                  <a:srgbClr val="800000"/>
                </a:solidFill>
                <a:latin typeface="Comic Sans MS"/>
              </a:rPr>
              <a:t> </a:t>
            </a:r>
            <a:r>
              <a:rPr b="1" lang="ru-RU" sz="4000" spc="-1" strike="noStrike">
                <a:solidFill>
                  <a:srgbClr val="800000"/>
                </a:solidFill>
                <a:latin typeface="Comic Sans MS"/>
              </a:rPr>
              <a:t>Нравственные   уроки произведения.</a:t>
            </a:r>
            <a:br>
              <a:rPr sz="4000"/>
            </a:br>
            <a:r>
              <a:rPr b="1" lang="ru-RU" sz="4000" spc="-1" strike="noStrike">
                <a:solidFill>
                  <a:srgbClr val="800000"/>
                </a:solidFill>
                <a:latin typeface="Comic Sans MS"/>
              </a:rPr>
              <a:t> </a:t>
            </a:r>
            <a:br>
              <a:rPr sz="5400"/>
            </a:br>
            <a:endParaRPr b="0" lang="en-US" sz="40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564000" y="4724280"/>
            <a:ext cx="5256000" cy="16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Calibri"/>
              </a:rPr>
              <a:t>Учитель: </a:t>
            </a:r>
            <a:endParaRPr b="0" lang="en-US" sz="2400" spc="-1" strike="noStrike">
              <a:solidFill>
                <a:srgbClr val="800000"/>
              </a:solidFill>
              <a:latin typeface="Calibri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Calibri"/>
              </a:rPr>
              <a:t>Сырцова Наталья Александровна, </a:t>
            </a:r>
            <a:endParaRPr b="0" lang="en-US" sz="2400" spc="-1" strike="noStrike">
              <a:solidFill>
                <a:srgbClr val="800000"/>
              </a:solidFill>
              <a:latin typeface="Calibri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Calibri"/>
              </a:rPr>
              <a:t>учитель русского языка и литературы </a:t>
            </a:r>
            <a:endParaRPr b="0" lang="en-US" sz="2400" spc="-1" strike="noStrike">
              <a:solidFill>
                <a:srgbClr val="800000"/>
              </a:solidFill>
              <a:latin typeface="Calibri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Calibri"/>
              </a:rPr>
              <a:t>МБУ «Школа  № 28»  г.о. Тольятти</a:t>
            </a:r>
            <a:endParaRPr b="0" lang="en-US" sz="2400" spc="-1" strike="noStrike">
              <a:solidFill>
                <a:srgbClr val="800000"/>
              </a:solidFill>
              <a:latin typeface="Calibri"/>
            </a:endParaRPr>
          </a:p>
        </p:txBody>
      </p:sp>
      <p:pic>
        <p:nvPicPr>
          <p:cNvPr id="50" name="Picture 2" descr="H:\Documents and Settings\Aida\Рабочий стол\клипарты рамки фончики\kniga39.gif"/>
          <p:cNvPicPr/>
          <p:nvPr/>
        </p:nvPicPr>
        <p:blipFill>
          <a:blip r:embed="rId1"/>
          <a:stretch/>
        </p:blipFill>
        <p:spPr>
          <a:xfrm>
            <a:off x="250920" y="765000"/>
            <a:ext cx="2411280" cy="2411640"/>
          </a:xfrm>
          <a:prstGeom prst="rect">
            <a:avLst/>
          </a:prstGeom>
          <a:ln w="0">
            <a:noFill/>
          </a:ln>
        </p:spPr>
      </p:pic>
      <p:sp>
        <p:nvSpPr>
          <p:cNvPr id="51" name="Text Box 7"/>
          <p:cNvSpPr/>
          <p:nvPr/>
        </p:nvSpPr>
        <p:spPr>
          <a:xfrm>
            <a:off x="755640" y="3500280"/>
            <a:ext cx="7561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Comic Sans MS"/>
              </a:rPr>
              <a:t>Урок литературы в 5 классе по сказке К.Г. Паустовского «Теплый хлеб»</a:t>
            </a:r>
            <a:br>
              <a:rPr sz="2800"/>
            </a:br>
            <a:endParaRPr b="0" lang="en-US" sz="2800" spc="-1" strike="noStrike">
              <a:solidFill>
                <a:srgbClr val="8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Comic Sans MS"/>
              </a:rPr>
              <a:t>Шанс и выбор</a:t>
            </a: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78920" y="1989000"/>
            <a:ext cx="374508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Comic Sans MS"/>
              </a:rPr>
              <a:t>Хозяин </a:t>
            </a:r>
            <a:r>
              <a:rPr b="0" lang="ru-RU" sz="3600" spc="-1" strike="noStrike">
                <a:solidFill>
                  <a:srgbClr val="800000"/>
                </a:solidFill>
                <a:latin typeface="Comic Sans MS"/>
              </a:rPr>
              <a:t>увидел голодного инвалида</a:t>
            </a:r>
            <a:endParaRPr b="0" lang="en-US" sz="36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48360" y="1988640"/>
            <a:ext cx="3533760" cy="36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Comic Sans MS"/>
              </a:rPr>
              <a:t>Филька </a:t>
            </a:r>
            <a:r>
              <a:rPr b="0" lang="ru-RU" sz="3600" spc="-1" strike="noStrike">
                <a:solidFill>
                  <a:srgbClr val="800000"/>
                </a:solidFill>
                <a:latin typeface="Comic Sans MS"/>
              </a:rPr>
              <a:t>увидел голодного коня</a:t>
            </a:r>
            <a:endParaRPr b="0" lang="en-US" sz="3600" spc="-1" strike="noStrike">
              <a:solidFill>
                <a:srgbClr val="800000"/>
              </a:solidFill>
              <a:latin typeface="Calibri"/>
            </a:endParaRPr>
          </a:p>
        </p:txBody>
      </p:sp>
      <p:pic>
        <p:nvPicPr>
          <p:cNvPr id="78" name="Picture 7" descr="C:\Users\директ\Desktop\Теплый хлеб\иллюстрации\обиженный конь.jpg"/>
          <p:cNvPicPr/>
          <p:nvPr/>
        </p:nvPicPr>
        <p:blipFill>
          <a:blip r:embed="rId1"/>
          <a:stretch/>
        </p:blipFill>
        <p:spPr>
          <a:xfrm>
            <a:off x="2919240" y="2352600"/>
            <a:ext cx="2318040" cy="2311560"/>
          </a:xfrm>
          <a:prstGeom prst="rect">
            <a:avLst/>
          </a:prstGeom>
          <a:ln w="0">
            <a:noFill/>
          </a:ln>
        </p:spPr>
      </p:pic>
      <p:sp>
        <p:nvSpPr>
          <p:cNvPr id="79" name="Text Box 10"/>
          <p:cNvSpPr/>
          <p:nvPr/>
        </p:nvSpPr>
        <p:spPr>
          <a:xfrm>
            <a:off x="684360" y="5013360"/>
            <a:ext cx="7848360" cy="120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buClr>
                <a:srgbClr val="8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Comic Sans MS"/>
              </a:rPr>
              <a:t>Жители деревни</a:t>
            </a:r>
            <a:r>
              <a:rPr b="0" lang="ru-RU" sz="1800" spc="-1" strike="noStrike">
                <a:solidFill>
                  <a:srgbClr val="800000"/>
                </a:solidFill>
                <a:latin typeface="Comic Sans MS"/>
              </a:rPr>
              <a:t>  </a:t>
            </a:r>
            <a:endParaRPr b="0" lang="en-US" sz="1800" spc="-1" strike="noStrike">
              <a:solidFill>
                <a:srgbClr val="800000"/>
              </a:solidFill>
              <a:latin typeface="Comic Sans MS"/>
            </a:endParaRPr>
          </a:p>
          <a:p>
            <a:pPr algn="ctr">
              <a:lnSpc>
                <a:spcPct val="4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00000"/>
                </a:solidFill>
                <a:latin typeface="Comic Sans MS"/>
              </a:rPr>
              <a:t>кололи лед на реке</a:t>
            </a:r>
            <a:endParaRPr b="0" lang="en-US" sz="3600" spc="-1" strike="noStrike">
              <a:solidFill>
                <a:srgbClr val="8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492000" y="520560"/>
            <a:ext cx="5194440" cy="175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Comic Sans MS"/>
              </a:rPr>
              <a:t>Как исправить ошибку?</a:t>
            </a: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07640" y="2492280"/>
            <a:ext cx="3816360" cy="36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Calibri"/>
              </a:rPr>
              <a:t>Преодолеть…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Calibri"/>
              </a:rPr>
              <a:t>Исправиться…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Calibri"/>
              </a:rPr>
              <a:t>Раскаяться…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Calibri"/>
              </a:rPr>
              <a:t>Осознать…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82" name="Стрелка углом 4"/>
          <p:cNvSpPr/>
          <p:nvPr/>
        </p:nvSpPr>
        <p:spPr>
          <a:xfrm>
            <a:off x="1908000" y="4292640"/>
            <a:ext cx="2592720" cy="1873080"/>
          </a:xfrm>
          <a:custGeom>
            <a:avLst/>
            <a:gdLst/>
            <a:ahLst/>
            <a:rect l="l" t="t" r="r" b="b"/>
            <a:pathLst>
              <a:path w="2592388" h="1873250">
                <a:moveTo>
                  <a:pt x="0" y="1873250"/>
                </a:moveTo>
                <a:lnTo>
                  <a:pt x="0" y="1053703"/>
                </a:lnTo>
                <a:cubicBezTo>
                  <a:pt x="0" y="601080"/>
                  <a:pt x="366924" y="234156"/>
                  <a:pt x="819547" y="234156"/>
                </a:cubicBezTo>
                <a:lnTo>
                  <a:pt x="2124076" y="234156"/>
                </a:lnTo>
                <a:lnTo>
                  <a:pt x="2124076" y="0"/>
                </a:lnTo>
                <a:lnTo>
                  <a:pt x="2592388" y="468313"/>
                </a:lnTo>
                <a:lnTo>
                  <a:pt x="2124076" y="936625"/>
                </a:lnTo>
                <a:lnTo>
                  <a:pt x="2124076" y="702469"/>
                </a:lnTo>
                <a:lnTo>
                  <a:pt x="819547" y="702469"/>
                </a:lnTo>
                <a:cubicBezTo>
                  <a:pt x="625566" y="702469"/>
                  <a:pt x="468313" y="859722"/>
                  <a:pt x="468313" y="1053703"/>
                </a:cubicBezTo>
                <a:lnTo>
                  <a:pt x="468313" y="1873250"/>
                </a:lnTo>
                <a:lnTo>
                  <a:pt x="0" y="187325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83" name="Стрелка углом 5"/>
          <p:cNvSpPr/>
          <p:nvPr/>
        </p:nvSpPr>
        <p:spPr>
          <a:xfrm>
            <a:off x="4249800" y="2924280"/>
            <a:ext cx="2376360" cy="1728720"/>
          </a:xfrm>
          <a:custGeom>
            <a:avLst/>
            <a:gdLst/>
            <a:ahLst/>
            <a:rect l="l" t="t" r="r" b="b"/>
            <a:pathLst>
              <a:path w="2376487" h="1728788">
                <a:moveTo>
                  <a:pt x="0" y="1728788"/>
                </a:moveTo>
                <a:lnTo>
                  <a:pt x="0" y="972443"/>
                </a:lnTo>
                <a:cubicBezTo>
                  <a:pt x="0" y="554725"/>
                  <a:pt x="338627" y="216098"/>
                  <a:pt x="756345" y="216098"/>
                </a:cubicBezTo>
                <a:lnTo>
                  <a:pt x="1944290" y="216099"/>
                </a:lnTo>
                <a:lnTo>
                  <a:pt x="1944290" y="0"/>
                </a:lnTo>
                <a:lnTo>
                  <a:pt x="2376487" y="432197"/>
                </a:lnTo>
                <a:lnTo>
                  <a:pt x="1944290" y="864394"/>
                </a:lnTo>
                <a:lnTo>
                  <a:pt x="1944290" y="648296"/>
                </a:lnTo>
                <a:lnTo>
                  <a:pt x="756345" y="648296"/>
                </a:lnTo>
                <a:cubicBezTo>
                  <a:pt x="577323" y="648296"/>
                  <a:pt x="432197" y="793422"/>
                  <a:pt x="432197" y="972444"/>
                </a:cubicBezTo>
                <a:lnTo>
                  <a:pt x="432197" y="1728788"/>
                </a:lnTo>
                <a:lnTo>
                  <a:pt x="0" y="1728788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84" name="Стрелка углом 6"/>
          <p:cNvSpPr/>
          <p:nvPr/>
        </p:nvSpPr>
        <p:spPr>
          <a:xfrm>
            <a:off x="6443640" y="2279520"/>
            <a:ext cx="2016000" cy="900360"/>
          </a:xfrm>
          <a:custGeom>
            <a:avLst/>
            <a:gdLst/>
            <a:ahLst/>
            <a:rect l="l" t="t" r="r" b="b"/>
            <a:pathLst>
              <a:path w="2016125" h="900113">
                <a:moveTo>
                  <a:pt x="0" y="900113"/>
                </a:moveTo>
                <a:lnTo>
                  <a:pt x="0" y="535180"/>
                </a:lnTo>
                <a:cubicBezTo>
                  <a:pt x="0" y="317691"/>
                  <a:pt x="176310" y="141381"/>
                  <a:pt x="393799" y="141381"/>
                </a:cubicBezTo>
                <a:lnTo>
                  <a:pt x="1791097" y="141381"/>
                </a:lnTo>
                <a:lnTo>
                  <a:pt x="1791097" y="0"/>
                </a:lnTo>
                <a:lnTo>
                  <a:pt x="2016125" y="253895"/>
                </a:lnTo>
                <a:lnTo>
                  <a:pt x="1791097" y="507790"/>
                </a:lnTo>
                <a:lnTo>
                  <a:pt x="1791097" y="366409"/>
                </a:lnTo>
                <a:lnTo>
                  <a:pt x="393799" y="366409"/>
                </a:lnTo>
                <a:cubicBezTo>
                  <a:pt x="300589" y="366409"/>
                  <a:pt x="225028" y="441970"/>
                  <a:pt x="225028" y="535180"/>
                </a:cubicBezTo>
                <a:lnTo>
                  <a:pt x="225028" y="900113"/>
                </a:lnTo>
                <a:lnTo>
                  <a:pt x="0" y="900113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85" name="Стрелка вправо 7"/>
          <p:cNvSpPr/>
          <p:nvPr/>
        </p:nvSpPr>
        <p:spPr>
          <a:xfrm>
            <a:off x="108000" y="5589720"/>
            <a:ext cx="1800000" cy="71892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Comic Sans MS"/>
            </a:endParaRPr>
          </a:p>
        </p:txBody>
      </p:sp>
      <p:pic>
        <p:nvPicPr>
          <p:cNvPr id="86" name="Picture 4" descr="680049"/>
          <p:cNvPicPr/>
          <p:nvPr/>
        </p:nvPicPr>
        <p:blipFill>
          <a:blip r:embed="rId1"/>
          <a:stretch/>
        </p:blipFill>
        <p:spPr>
          <a:xfrm>
            <a:off x="324000" y="573120"/>
            <a:ext cx="2809800" cy="18716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5" descr="C:\Users\директ\Desktop\Теплый хлеб\восхождение по лестнице.jpg"/>
          <p:cNvPicPr/>
          <p:nvPr/>
        </p:nvPicPr>
        <p:blipFill>
          <a:blip r:embed="rId2"/>
          <a:stretch/>
        </p:blipFill>
        <p:spPr>
          <a:xfrm>
            <a:off x="5041800" y="3614760"/>
            <a:ext cx="3127320" cy="269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2"/>
          <p:cNvSpPr/>
          <p:nvPr/>
        </p:nvSpPr>
        <p:spPr>
          <a:xfrm>
            <a:off x="392040" y="-149400"/>
            <a:ext cx="852804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06440"/>
                <a:tab algn="l" pos="814320"/>
                <a:tab algn="l" pos="1220760"/>
                <a:tab algn="l" pos="1628640"/>
                <a:tab algn="l" pos="2036880"/>
                <a:tab algn="l" pos="2443320"/>
                <a:tab algn="l" pos="2851200"/>
                <a:tab algn="l" pos="3259080"/>
                <a:tab algn="l" pos="3665520"/>
                <a:tab algn="l" pos="4073400"/>
                <a:tab algn="l" pos="4481640"/>
                <a:tab algn="l" pos="4889520"/>
                <a:tab algn="l" pos="5295960"/>
                <a:tab algn="l" pos="5703840"/>
                <a:tab algn="l" pos="6111720"/>
                <a:tab algn="l" pos="6518160"/>
                <a:tab algn="l" pos="6926400"/>
                <a:tab algn="l" pos="7334280"/>
                <a:tab algn="l" pos="7742160"/>
                <a:tab algn="l" pos="814860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endParaRPr b="0" lang="en-US" sz="18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89" name="Freeform 3"/>
          <p:cNvSpPr/>
          <p:nvPr/>
        </p:nvSpPr>
        <p:spPr>
          <a:xfrm>
            <a:off x="8269200" y="673200"/>
            <a:ext cx="760680" cy="1000080"/>
          </a:xfrm>
          <a:custGeom>
            <a:avLst/>
            <a:gdLst/>
            <a:ahLst/>
            <a:rect l="l" t="t" r="r" b="b"/>
            <a:pathLst>
              <a:path w="308" h="444">
                <a:moveTo>
                  <a:pt x="308" y="120"/>
                </a:moveTo>
                <a:lnTo>
                  <a:pt x="0" y="444"/>
                </a:lnTo>
                <a:lnTo>
                  <a:pt x="0" y="286"/>
                </a:lnTo>
                <a:lnTo>
                  <a:pt x="308" y="0"/>
                </a:lnTo>
                <a:lnTo>
                  <a:pt x="308" y="120"/>
                </a:lnTo>
                <a:close/>
              </a:path>
            </a:pathLst>
          </a:custGeom>
          <a:gradFill rotWithShape="0">
            <a:gsLst>
              <a:gs pos="0">
                <a:srgbClr val="00563f"/>
              </a:gs>
              <a:gs pos="50000">
                <a:srgbClr val="00271d"/>
              </a:gs>
              <a:gs pos="100000">
                <a:srgbClr val="00563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90" name="Freeform 4"/>
          <p:cNvSpPr/>
          <p:nvPr/>
        </p:nvSpPr>
        <p:spPr>
          <a:xfrm>
            <a:off x="4643280" y="692280"/>
            <a:ext cx="4310280" cy="630000"/>
          </a:xfrm>
          <a:prstGeom prst="pie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06440"/>
                <a:tab algn="l" pos="814320"/>
                <a:tab algn="l" pos="1220760"/>
                <a:tab algn="l" pos="1628640"/>
                <a:tab algn="l" pos="2036880"/>
                <a:tab algn="l" pos="2443320"/>
                <a:tab algn="l" pos="2851200"/>
                <a:tab algn="l" pos="3259080"/>
                <a:tab algn="l" pos="3665520"/>
                <a:tab algn="l" pos="4073400"/>
                <a:tab algn="l" pos="4481640"/>
                <a:tab algn="l" pos="4889520"/>
                <a:tab algn="l" pos="5295960"/>
                <a:tab algn="l" pos="5703840"/>
                <a:tab algn="l" pos="6111720"/>
                <a:tab algn="l" pos="6518160"/>
                <a:tab algn="l" pos="6926400"/>
                <a:tab algn="l" pos="7334280"/>
                <a:tab algn="l" pos="7742160"/>
                <a:tab algn="l" pos="814860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текст</a:t>
            </a:r>
            <a:endParaRPr b="0" lang="en-US" sz="16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91" name="Freeform 5"/>
          <p:cNvSpPr/>
          <p:nvPr/>
        </p:nvSpPr>
        <p:spPr>
          <a:xfrm>
            <a:off x="7488360" y="1627200"/>
            <a:ext cx="833400" cy="1033560"/>
          </a:xfrm>
          <a:custGeom>
            <a:avLst/>
            <a:gdLst/>
            <a:ahLst/>
            <a:rect l="l" t="t" r="r" b="b"/>
            <a:pathLst>
              <a:path w="308" h="442">
                <a:moveTo>
                  <a:pt x="308" y="120"/>
                </a:moveTo>
                <a:lnTo>
                  <a:pt x="0" y="442"/>
                </a:lnTo>
                <a:lnTo>
                  <a:pt x="0" y="286"/>
                </a:lnTo>
                <a:lnTo>
                  <a:pt x="308" y="0"/>
                </a:lnTo>
                <a:lnTo>
                  <a:pt x="308" y="120"/>
                </a:lnTo>
                <a:close/>
              </a:path>
            </a:pathLst>
          </a:custGeom>
          <a:gradFill rotWithShape="0">
            <a:gsLst>
              <a:gs pos="0">
                <a:srgbClr val="4b1092"/>
              </a:gs>
              <a:gs pos="50000">
                <a:srgbClr val="220743"/>
              </a:gs>
              <a:gs pos="100000">
                <a:srgbClr val="4b109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92" name="Freeform 6"/>
          <p:cNvSpPr/>
          <p:nvPr/>
        </p:nvSpPr>
        <p:spPr>
          <a:xfrm>
            <a:off x="3635280" y="1628640"/>
            <a:ext cx="4632480" cy="644760"/>
          </a:xfrm>
          <a:custGeom>
            <a:avLst/>
            <a:gdLst/>
            <a:ahLst/>
            <a:rect l="l" t="t" r="r" b="b"/>
            <a:pathLst>
              <a:path w="1920" h="284">
                <a:moveTo>
                  <a:pt x="1612" y="284"/>
                </a:moveTo>
                <a:lnTo>
                  <a:pt x="0" y="284"/>
                </a:lnTo>
                <a:lnTo>
                  <a:pt x="446" y="0"/>
                </a:lnTo>
                <a:lnTo>
                  <a:pt x="1920" y="0"/>
                </a:lnTo>
                <a:lnTo>
                  <a:pt x="1612" y="284"/>
                </a:lnTo>
                <a:close/>
              </a:path>
            </a:pathLst>
          </a:custGeom>
          <a:solidFill>
            <a:srgbClr val="a77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93" name="Freeform 7"/>
          <p:cNvSpPr/>
          <p:nvPr/>
        </p:nvSpPr>
        <p:spPr>
          <a:xfrm>
            <a:off x="6816600" y="2579760"/>
            <a:ext cx="739800" cy="1384200"/>
          </a:xfrm>
          <a:custGeom>
            <a:avLst/>
            <a:gdLst/>
            <a:ahLst/>
            <a:rect l="l" t="t" r="r" b="b"/>
            <a:pathLst>
              <a:path w="306" h="444">
                <a:moveTo>
                  <a:pt x="306" y="122"/>
                </a:moveTo>
                <a:lnTo>
                  <a:pt x="0" y="444"/>
                </a:lnTo>
                <a:lnTo>
                  <a:pt x="0" y="286"/>
                </a:lnTo>
                <a:lnTo>
                  <a:pt x="306" y="0"/>
                </a:lnTo>
                <a:lnTo>
                  <a:pt x="306" y="122"/>
                </a:lnTo>
                <a:close/>
              </a:path>
            </a:pathLst>
          </a:custGeom>
          <a:gradFill rotWithShape="0">
            <a:gsLst>
              <a:gs pos="0">
                <a:srgbClr val="90330a"/>
              </a:gs>
              <a:gs pos="50000">
                <a:srgbClr val="421704"/>
              </a:gs>
              <a:gs pos="100000">
                <a:srgbClr val="90330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94" name="Line 8"/>
          <p:cNvSpPr/>
          <p:nvPr/>
        </p:nvSpPr>
        <p:spPr>
          <a:xfrm flipH="1" flipV="1">
            <a:off x="-6480" y="6527880"/>
            <a:ext cx="2989440" cy="47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95" name="Line 9"/>
          <p:cNvSpPr/>
          <p:nvPr/>
        </p:nvSpPr>
        <p:spPr>
          <a:xfrm flipH="1">
            <a:off x="-6480" y="3917880"/>
            <a:ext cx="261000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96" name="Line 10"/>
          <p:cNvSpPr/>
          <p:nvPr/>
        </p:nvSpPr>
        <p:spPr>
          <a:xfrm flipH="1">
            <a:off x="-6480" y="2639880"/>
            <a:ext cx="367992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97" name="Line 11"/>
          <p:cNvSpPr/>
          <p:nvPr/>
        </p:nvSpPr>
        <p:spPr>
          <a:xfrm flipH="1">
            <a:off x="-6480" y="1514520"/>
            <a:ext cx="474984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98" name="Line 12"/>
          <p:cNvSpPr/>
          <p:nvPr/>
        </p:nvSpPr>
        <p:spPr>
          <a:xfrm flipH="1">
            <a:off x="-6480" y="668160"/>
            <a:ext cx="581832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99" name="Line 13"/>
          <p:cNvSpPr/>
          <p:nvPr/>
        </p:nvSpPr>
        <p:spPr>
          <a:xfrm>
            <a:off x="230040" y="658800"/>
            <a:ext cx="3240" cy="8366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100" name="Line 14"/>
          <p:cNvSpPr/>
          <p:nvPr/>
        </p:nvSpPr>
        <p:spPr>
          <a:xfrm>
            <a:off x="246240" y="1536840"/>
            <a:ext cx="1440" cy="10555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101" name="Line 15"/>
          <p:cNvSpPr/>
          <p:nvPr/>
        </p:nvSpPr>
        <p:spPr>
          <a:xfrm flipH="1">
            <a:off x="212400" y="2660760"/>
            <a:ext cx="27000" cy="116676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102" name="Line 16"/>
          <p:cNvSpPr/>
          <p:nvPr/>
        </p:nvSpPr>
        <p:spPr>
          <a:xfrm flipH="1">
            <a:off x="225000" y="3922560"/>
            <a:ext cx="27000" cy="256716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103" name="Freeform 17"/>
          <p:cNvSpPr/>
          <p:nvPr/>
        </p:nvSpPr>
        <p:spPr>
          <a:xfrm>
            <a:off x="1547640" y="836640"/>
            <a:ext cx="2727360" cy="4773600"/>
          </a:xfrm>
          <a:custGeom>
            <a:avLst/>
            <a:gdLst/>
            <a:ahLst/>
            <a:rect l="l" t="t" r="r" b="b"/>
            <a:pathLst>
              <a:path w="1824" h="2648">
                <a:moveTo>
                  <a:pt x="0" y="2648"/>
                </a:moveTo>
                <a:lnTo>
                  <a:pt x="12" y="2464"/>
                </a:lnTo>
                <a:lnTo>
                  <a:pt x="32" y="2288"/>
                </a:lnTo>
                <a:lnTo>
                  <a:pt x="56" y="2120"/>
                </a:lnTo>
                <a:lnTo>
                  <a:pt x="88" y="1960"/>
                </a:lnTo>
                <a:lnTo>
                  <a:pt x="124" y="1808"/>
                </a:lnTo>
                <a:lnTo>
                  <a:pt x="166" y="1662"/>
                </a:lnTo>
                <a:lnTo>
                  <a:pt x="212" y="1524"/>
                </a:lnTo>
                <a:lnTo>
                  <a:pt x="262" y="1394"/>
                </a:lnTo>
                <a:lnTo>
                  <a:pt x="316" y="1270"/>
                </a:lnTo>
                <a:lnTo>
                  <a:pt x="372" y="1154"/>
                </a:lnTo>
                <a:lnTo>
                  <a:pt x="430" y="1044"/>
                </a:lnTo>
                <a:lnTo>
                  <a:pt x="490" y="942"/>
                </a:lnTo>
                <a:lnTo>
                  <a:pt x="550" y="846"/>
                </a:lnTo>
                <a:lnTo>
                  <a:pt x="612" y="758"/>
                </a:lnTo>
                <a:lnTo>
                  <a:pt x="672" y="674"/>
                </a:lnTo>
                <a:lnTo>
                  <a:pt x="734" y="598"/>
                </a:lnTo>
                <a:lnTo>
                  <a:pt x="792" y="528"/>
                </a:lnTo>
                <a:lnTo>
                  <a:pt x="850" y="464"/>
                </a:lnTo>
                <a:lnTo>
                  <a:pt x="906" y="408"/>
                </a:lnTo>
                <a:lnTo>
                  <a:pt x="960" y="356"/>
                </a:lnTo>
                <a:lnTo>
                  <a:pt x="1010" y="310"/>
                </a:lnTo>
                <a:lnTo>
                  <a:pt x="1056" y="270"/>
                </a:lnTo>
                <a:lnTo>
                  <a:pt x="1096" y="236"/>
                </a:lnTo>
                <a:lnTo>
                  <a:pt x="1134" y="208"/>
                </a:lnTo>
                <a:lnTo>
                  <a:pt x="1164" y="184"/>
                </a:lnTo>
                <a:lnTo>
                  <a:pt x="1190" y="166"/>
                </a:lnTo>
                <a:lnTo>
                  <a:pt x="1208" y="154"/>
                </a:lnTo>
                <a:lnTo>
                  <a:pt x="1220" y="146"/>
                </a:lnTo>
                <a:lnTo>
                  <a:pt x="1224" y="144"/>
                </a:lnTo>
                <a:lnTo>
                  <a:pt x="848" y="0"/>
                </a:lnTo>
                <a:lnTo>
                  <a:pt x="1728" y="56"/>
                </a:lnTo>
                <a:lnTo>
                  <a:pt x="1824" y="480"/>
                </a:lnTo>
                <a:lnTo>
                  <a:pt x="1568" y="328"/>
                </a:lnTo>
                <a:lnTo>
                  <a:pt x="1564" y="328"/>
                </a:lnTo>
                <a:lnTo>
                  <a:pt x="1554" y="332"/>
                </a:lnTo>
                <a:lnTo>
                  <a:pt x="1538" y="338"/>
                </a:lnTo>
                <a:lnTo>
                  <a:pt x="1514" y="346"/>
                </a:lnTo>
                <a:lnTo>
                  <a:pt x="1486" y="356"/>
                </a:lnTo>
                <a:lnTo>
                  <a:pt x="1452" y="370"/>
                </a:lnTo>
                <a:lnTo>
                  <a:pt x="1412" y="388"/>
                </a:lnTo>
                <a:lnTo>
                  <a:pt x="1370" y="410"/>
                </a:lnTo>
                <a:lnTo>
                  <a:pt x="1322" y="436"/>
                </a:lnTo>
                <a:lnTo>
                  <a:pt x="1270" y="466"/>
                </a:lnTo>
                <a:lnTo>
                  <a:pt x="1216" y="500"/>
                </a:lnTo>
                <a:lnTo>
                  <a:pt x="1158" y="540"/>
                </a:lnTo>
                <a:lnTo>
                  <a:pt x="1098" y="584"/>
                </a:lnTo>
                <a:lnTo>
                  <a:pt x="1034" y="636"/>
                </a:lnTo>
                <a:lnTo>
                  <a:pt x="970" y="692"/>
                </a:lnTo>
                <a:lnTo>
                  <a:pt x="904" y="756"/>
                </a:lnTo>
                <a:lnTo>
                  <a:pt x="836" y="824"/>
                </a:lnTo>
                <a:lnTo>
                  <a:pt x="770" y="900"/>
                </a:lnTo>
                <a:lnTo>
                  <a:pt x="700" y="984"/>
                </a:lnTo>
                <a:lnTo>
                  <a:pt x="632" y="1076"/>
                </a:lnTo>
                <a:lnTo>
                  <a:pt x="566" y="1174"/>
                </a:lnTo>
                <a:lnTo>
                  <a:pt x="498" y="1280"/>
                </a:lnTo>
                <a:lnTo>
                  <a:pt x="434" y="1394"/>
                </a:lnTo>
                <a:lnTo>
                  <a:pt x="370" y="1518"/>
                </a:lnTo>
                <a:lnTo>
                  <a:pt x="308" y="1650"/>
                </a:lnTo>
                <a:lnTo>
                  <a:pt x="248" y="1792"/>
                </a:lnTo>
                <a:lnTo>
                  <a:pt x="192" y="1944"/>
                </a:lnTo>
                <a:lnTo>
                  <a:pt x="138" y="2104"/>
                </a:lnTo>
                <a:lnTo>
                  <a:pt x="88" y="2274"/>
                </a:lnTo>
                <a:lnTo>
                  <a:pt x="42" y="2456"/>
                </a:lnTo>
                <a:lnTo>
                  <a:pt x="0" y="2648"/>
                </a:lnTo>
                <a:close/>
              </a:path>
            </a:pathLst>
          </a:custGeom>
          <a:gradFill rotWithShape="0">
            <a:gsLst>
              <a:gs pos="0">
                <a:srgbClr val="d11364"/>
              </a:gs>
              <a:gs pos="100000">
                <a:srgbClr val="60082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4735440" y="1293840"/>
            <a:ext cx="3568680" cy="366840"/>
          </a:xfrm>
          <a:prstGeom prst="rect">
            <a:avLst/>
          </a:prstGeom>
          <a:gradFill rotWithShape="0">
            <a:gsLst>
              <a:gs pos="0">
                <a:srgbClr val="00906a"/>
              </a:gs>
              <a:gs pos="50000">
                <a:srgbClr val="00684c"/>
              </a:gs>
              <a:gs pos="100000">
                <a:srgbClr val="00906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105" name="Rectangle 19"/>
          <p:cNvSpPr/>
          <p:nvPr/>
        </p:nvSpPr>
        <p:spPr>
          <a:xfrm>
            <a:off x="3635280" y="2276640"/>
            <a:ext cx="3886200" cy="318960"/>
          </a:xfrm>
          <a:prstGeom prst="rect">
            <a:avLst/>
          </a:prstGeom>
          <a:gradFill rotWithShape="0">
            <a:gsLst>
              <a:gs pos="0">
                <a:srgbClr val="8041ff"/>
              </a:gs>
              <a:gs pos="50000">
                <a:srgbClr val="5c2eb8"/>
              </a:gs>
              <a:gs pos="100000">
                <a:srgbClr val="8041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106" name="Freeform 20"/>
          <p:cNvSpPr/>
          <p:nvPr/>
        </p:nvSpPr>
        <p:spPr>
          <a:xfrm>
            <a:off x="2627280" y="2637000"/>
            <a:ext cx="4942080" cy="836280"/>
          </a:xfrm>
          <a:custGeom>
            <a:avLst/>
            <a:gdLst/>
            <a:ahLst/>
            <a:rect l="l" t="t" r="r" b="b"/>
            <a:pathLst>
              <a:path w="2048" h="286">
                <a:moveTo>
                  <a:pt x="1742" y="286"/>
                </a:moveTo>
                <a:lnTo>
                  <a:pt x="0" y="286"/>
                </a:lnTo>
                <a:lnTo>
                  <a:pt x="446" y="0"/>
                </a:lnTo>
                <a:lnTo>
                  <a:pt x="2048" y="0"/>
                </a:lnTo>
                <a:lnTo>
                  <a:pt x="1742" y="286"/>
                </a:lnTo>
                <a:close/>
              </a:path>
            </a:pathLst>
          </a:cu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107" name="Rectangle 21"/>
          <p:cNvSpPr/>
          <p:nvPr/>
        </p:nvSpPr>
        <p:spPr>
          <a:xfrm>
            <a:off x="2597040" y="3467160"/>
            <a:ext cx="4211640" cy="468360"/>
          </a:xfrm>
          <a:prstGeom prst="rect">
            <a:avLst/>
          </a:prstGeom>
          <a:gradFill rotWithShape="0">
            <a:gsLst>
              <a:gs pos="0">
                <a:srgbClr val="dc7150"/>
              </a:gs>
              <a:gs pos="50000">
                <a:srgbClr val="9e5139"/>
              </a:gs>
              <a:gs pos="100000">
                <a:srgbClr val="dc715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108" name="Text Box 22"/>
          <p:cNvSpPr/>
          <p:nvPr/>
        </p:nvSpPr>
        <p:spPr>
          <a:xfrm>
            <a:off x="1392480" y="907920"/>
            <a:ext cx="1177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2480" bIns="424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06440"/>
                <a:tab algn="l" pos="814320"/>
                <a:tab algn="l" pos="1220760"/>
                <a:tab algn="l" pos="1628640"/>
                <a:tab algn="l" pos="2036880"/>
                <a:tab algn="l" pos="2443320"/>
                <a:tab algn="l" pos="2851200"/>
                <a:tab algn="l" pos="3259080"/>
                <a:tab algn="l" pos="3665520"/>
                <a:tab algn="l" pos="4073400"/>
                <a:tab algn="l" pos="4481640"/>
                <a:tab algn="l" pos="4889520"/>
                <a:tab algn="l" pos="5295960"/>
                <a:tab algn="l" pos="5703840"/>
                <a:tab algn="l" pos="6111720"/>
                <a:tab algn="l" pos="6518160"/>
                <a:tab algn="l" pos="6926400"/>
                <a:tab algn="l" pos="7334280"/>
                <a:tab algn="l" pos="7742160"/>
                <a:tab algn="l" pos="814860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4 ступень</a:t>
            </a:r>
            <a:endParaRPr b="0" lang="en-US" sz="16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109" name="Text Box 23"/>
          <p:cNvSpPr/>
          <p:nvPr/>
        </p:nvSpPr>
        <p:spPr>
          <a:xfrm>
            <a:off x="760320" y="1844640"/>
            <a:ext cx="13431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06440"/>
                <a:tab algn="l" pos="814320"/>
                <a:tab algn="l" pos="1220760"/>
                <a:tab algn="l" pos="1628640"/>
                <a:tab algn="l" pos="2036880"/>
                <a:tab algn="l" pos="2443320"/>
                <a:tab algn="l" pos="2851200"/>
                <a:tab algn="l" pos="3259080"/>
                <a:tab algn="l" pos="3665520"/>
                <a:tab algn="l" pos="4073400"/>
                <a:tab algn="l" pos="4481640"/>
                <a:tab algn="l" pos="4889520"/>
                <a:tab algn="l" pos="5295960"/>
                <a:tab algn="l" pos="5703840"/>
                <a:tab algn="l" pos="6111720"/>
                <a:tab algn="l" pos="6518160"/>
                <a:tab algn="l" pos="6926400"/>
                <a:tab algn="l" pos="7334280"/>
                <a:tab algn="l" pos="7742160"/>
                <a:tab algn="l" pos="814860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3 ступень</a:t>
            </a:r>
            <a:endParaRPr b="0" lang="en-US" sz="16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110" name="Text Box 24"/>
          <p:cNvSpPr/>
          <p:nvPr/>
        </p:nvSpPr>
        <p:spPr>
          <a:xfrm>
            <a:off x="426240" y="2921040"/>
            <a:ext cx="12841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06440"/>
                <a:tab algn="l" pos="814320"/>
                <a:tab algn="l" pos="1220760"/>
                <a:tab algn="l" pos="1628640"/>
                <a:tab algn="l" pos="2036880"/>
                <a:tab algn="l" pos="2443320"/>
                <a:tab algn="l" pos="2851200"/>
                <a:tab algn="l" pos="3259080"/>
                <a:tab algn="l" pos="3665520"/>
                <a:tab algn="l" pos="4073400"/>
                <a:tab algn="l" pos="4481640"/>
                <a:tab algn="l" pos="4889520"/>
                <a:tab algn="l" pos="5295960"/>
                <a:tab algn="l" pos="5703840"/>
                <a:tab algn="l" pos="6111720"/>
                <a:tab algn="l" pos="6518160"/>
                <a:tab algn="l" pos="6926400"/>
                <a:tab algn="l" pos="7334280"/>
                <a:tab algn="l" pos="7742160"/>
                <a:tab algn="l" pos="814860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2 ступень</a:t>
            </a:r>
            <a:endParaRPr b="0" lang="en-US" sz="16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111" name="Text Box 25"/>
          <p:cNvSpPr/>
          <p:nvPr/>
        </p:nvSpPr>
        <p:spPr>
          <a:xfrm>
            <a:off x="424440" y="4087800"/>
            <a:ext cx="123084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06440"/>
                <a:tab algn="l" pos="814320"/>
                <a:tab algn="l" pos="1220760"/>
                <a:tab algn="l" pos="1628640"/>
                <a:tab algn="l" pos="2036880"/>
                <a:tab algn="l" pos="2443320"/>
                <a:tab algn="l" pos="2851200"/>
                <a:tab algn="l" pos="3259080"/>
                <a:tab algn="l" pos="3665520"/>
                <a:tab algn="l" pos="4073400"/>
                <a:tab algn="l" pos="4481640"/>
                <a:tab algn="l" pos="4889520"/>
                <a:tab algn="l" pos="5295960"/>
                <a:tab algn="l" pos="5703840"/>
                <a:tab algn="l" pos="6111720"/>
                <a:tab algn="l" pos="6518160"/>
                <a:tab algn="l" pos="6926400"/>
                <a:tab algn="l" pos="7334280"/>
                <a:tab algn="l" pos="7742160"/>
                <a:tab algn="l" pos="814860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1 ступень </a:t>
            </a:r>
            <a:endParaRPr b="0" lang="en-US" sz="16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112" name="AutoShape 26"/>
          <p:cNvSpPr/>
          <p:nvPr/>
        </p:nvSpPr>
        <p:spPr>
          <a:xfrm>
            <a:off x="2268360" y="3933720"/>
            <a:ext cx="4410360" cy="201636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e6ff00"/>
              </a:gs>
              <a:gs pos="50000">
                <a:srgbClr val="ff9966"/>
              </a:gs>
              <a:gs pos="100000">
                <a:srgbClr val="e6ff00"/>
              </a:gs>
            </a:gsLst>
            <a:lin ang="108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2480" bIns="4248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06440"/>
                <a:tab algn="l" pos="814320"/>
                <a:tab algn="l" pos="1220760"/>
                <a:tab algn="l" pos="1628640"/>
                <a:tab algn="l" pos="2036880"/>
                <a:tab algn="l" pos="2443320"/>
                <a:tab algn="l" pos="2851200"/>
                <a:tab algn="l" pos="3259080"/>
                <a:tab algn="l" pos="3665520"/>
                <a:tab algn="l" pos="4073400"/>
                <a:tab algn="l" pos="4481640"/>
                <a:tab algn="l" pos="4889520"/>
                <a:tab algn="l" pos="5295960"/>
                <a:tab algn="l" pos="5703840"/>
                <a:tab algn="l" pos="6111720"/>
                <a:tab algn="l" pos="6518160"/>
                <a:tab algn="l" pos="6926400"/>
                <a:tab algn="l" pos="7334280"/>
                <a:tab algn="l" pos="7742160"/>
                <a:tab algn="l" pos="814860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Осознание ошибки</a:t>
            </a:r>
            <a:endParaRPr b="0" lang="en-US" sz="28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113" name="Text Box 27"/>
          <p:cNvSpPr/>
          <p:nvPr/>
        </p:nvSpPr>
        <p:spPr>
          <a:xfrm>
            <a:off x="3348000" y="2708280"/>
            <a:ext cx="352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Преодоление стыда и страха наказания.</a:t>
            </a:r>
            <a:endParaRPr b="0" lang="en-US" sz="24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114" name="Text Box 28"/>
          <p:cNvSpPr/>
          <p:nvPr/>
        </p:nvSpPr>
        <p:spPr>
          <a:xfrm>
            <a:off x="4500720" y="1844640"/>
            <a:ext cx="2950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115" name="Text Box 29"/>
          <p:cNvSpPr/>
          <p:nvPr/>
        </p:nvSpPr>
        <p:spPr>
          <a:xfrm>
            <a:off x="4716360" y="1700280"/>
            <a:ext cx="244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Раскаяние</a:t>
            </a:r>
            <a:endParaRPr b="0" lang="en-US" sz="32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116" name="Text Box 30"/>
          <p:cNvSpPr/>
          <p:nvPr/>
        </p:nvSpPr>
        <p:spPr>
          <a:xfrm>
            <a:off x="5651640" y="765000"/>
            <a:ext cx="26636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omic Sans MS"/>
              </a:rPr>
              <a:t>Исправление</a:t>
            </a:r>
            <a:endParaRPr b="0" lang="en-US" sz="3000" spc="-1" strike="noStrike">
              <a:solidFill>
                <a:srgbClr val="800000"/>
              </a:solidFill>
              <a:latin typeface="Comic Sans M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Comic Sans MS"/>
              </a:rPr>
              <a:t>Уважаемый </a:t>
            </a:r>
            <a:br>
              <a:rPr sz="4000"/>
            </a:br>
            <a:r>
              <a:rPr b="1" lang="ru-RU" sz="4000" spc="-1" strike="noStrike">
                <a:solidFill>
                  <a:srgbClr val="800000"/>
                </a:solidFill>
                <a:latin typeface="Comic Sans MS"/>
              </a:rPr>
              <a:t>Константин Георгиевич,</a:t>
            </a:r>
            <a:endParaRPr b="0" lang="en-US" sz="40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03640" y="1916280"/>
            <a:ext cx="36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1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я понял Вас…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marL="312120" indent="0">
              <a:lnSpc>
                <a:spcPct val="1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я хочу сказать…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marL="312120" indent="0">
              <a:lnSpc>
                <a:spcPct val="1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я почувствовал…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marL="312120" indent="0">
              <a:lnSpc>
                <a:spcPct val="1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я узнал…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marL="312120" indent="0">
              <a:lnSpc>
                <a:spcPct val="1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pic>
        <p:nvPicPr>
          <p:cNvPr id="119" name="Picture 5" descr="Картинка 3 из 2352"/>
          <p:cNvPicPr/>
          <p:nvPr/>
        </p:nvPicPr>
        <p:blipFill>
          <a:blip r:embed="rId1"/>
          <a:stretch/>
        </p:blipFill>
        <p:spPr>
          <a:xfrm>
            <a:off x="1042920" y="1994040"/>
            <a:ext cx="3243240" cy="43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Calibri"/>
              </a:rPr>
              <a:t>Домашнее задание</a:t>
            </a: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Calibri"/>
              </a:rPr>
              <a:t>Прочитать самостоятельно произведение К. Паустовского и рассказать о его нравственных уроках.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Calibri"/>
              </a:rPr>
              <a:t>Сочинение-миниатюра «Чему меня научила сказка К. Паустовского «Теплый хлеб».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Calibri"/>
              </a:rPr>
              <a:t>Вопросы к главному герою сказки.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22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EA266-159B-4A3E-9266-CF0846DFC33B}" type="datetime">
              <a:rPr b="0" lang="ru-RU" sz="1200" spc="-1" strike="noStrike">
                <a:solidFill>
                  <a:srgbClr val="ac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123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771C6-C647-422E-A445-C78DCB1AB4A7}" type="slidenum">
              <a:rPr b="0" lang="ru-RU" sz="1200" spc="-1" strike="noStrike">
                <a:solidFill>
                  <a:srgbClr val="ac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Comic Sans MS"/>
              </a:rPr>
              <a:t>Самооценка</a:t>
            </a: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</p:txBody>
      </p:sp>
      <p:grpSp>
        <p:nvGrpSpPr>
          <p:cNvPr id="126" name="Diagram 5"/>
          <p:cNvGrpSpPr/>
          <p:nvPr/>
        </p:nvGrpSpPr>
        <p:grpSpPr>
          <a:xfrm>
            <a:off x="1375920" y="1471680"/>
            <a:ext cx="5958360" cy="3987360"/>
            <a:chOff x="1375920" y="1471680"/>
            <a:chExt cx="5958360" cy="3987360"/>
          </a:xfrm>
        </p:grpSpPr>
        <p:sp>
          <p:nvSpPr>
            <p:cNvPr id="127" name="_s1028"/>
            <p:cNvSpPr/>
            <p:nvPr/>
          </p:nvSpPr>
          <p:spPr>
            <a:xfrm flipH="1">
              <a:off x="2919600" y="4230360"/>
              <a:ext cx="716040" cy="30636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800000"/>
                </a:solidFill>
                <a:latin typeface="Comic Sans MS"/>
              </a:endParaRPr>
            </a:p>
          </p:txBody>
        </p:sp>
        <p:sp>
          <p:nvSpPr>
            <p:cNvPr id="128" name="_s1029"/>
            <p:cNvSpPr/>
            <p:nvPr/>
          </p:nvSpPr>
          <p:spPr>
            <a:xfrm>
              <a:off x="1375920" y="4232520"/>
              <a:ext cx="1656360" cy="122652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Comic Sans MS"/>
                </a:rPr>
                <a:t>Участие </a:t>
              </a:r>
              <a:endParaRPr b="0" lang="en-US" sz="1500" spc="-1" strike="noStrike">
                <a:solidFill>
                  <a:srgbClr val="8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Comic Sans MS"/>
                </a:rPr>
                <a:t>в обсуждении,  </a:t>
              </a:r>
              <a:endParaRPr b="0" lang="en-US" sz="1500" spc="-1" strike="noStrike">
                <a:solidFill>
                  <a:srgbClr val="8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Comic Sans MS"/>
                </a:rPr>
                <a:t>диалоге,</a:t>
              </a:r>
              <a:endParaRPr b="0" lang="en-US" sz="1500" spc="-1" strike="noStrike">
                <a:solidFill>
                  <a:srgbClr val="8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Comic Sans MS"/>
                </a:rPr>
                <a:t>формулировке</a:t>
              </a:r>
              <a:endParaRPr b="0" lang="en-US" sz="1500" spc="-1" strike="noStrike">
                <a:solidFill>
                  <a:srgbClr val="8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Comic Sans MS"/>
                </a:rPr>
                <a:t>собственного мнения</a:t>
              </a:r>
              <a:endParaRPr b="0" lang="en-US" sz="1500" spc="-1" strike="noStrike">
                <a:solidFill>
                  <a:srgbClr val="8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800000"/>
                </a:solidFill>
                <a:latin typeface="Comic Sans MS"/>
              </a:endParaRPr>
            </a:p>
          </p:txBody>
        </p:sp>
        <p:sp>
          <p:nvSpPr>
            <p:cNvPr id="129" name="_s1030"/>
            <p:cNvSpPr/>
            <p:nvPr/>
          </p:nvSpPr>
          <p:spPr>
            <a:xfrm>
              <a:off x="5071320" y="4232520"/>
              <a:ext cx="715680" cy="30636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800000"/>
                </a:solidFill>
                <a:latin typeface="Comic Sans MS"/>
              </a:endParaRPr>
            </a:p>
          </p:txBody>
        </p:sp>
        <p:sp>
          <p:nvSpPr>
            <p:cNvPr id="130" name="_s1031"/>
            <p:cNvSpPr/>
            <p:nvPr/>
          </p:nvSpPr>
          <p:spPr>
            <a:xfrm>
              <a:off x="5677920" y="4230360"/>
              <a:ext cx="1656360" cy="122688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Планирование </a:t>
              </a:r>
              <a:endParaRPr b="0" lang="en-US" sz="1600" spc="-1" strike="noStrike">
                <a:solidFill>
                  <a:srgbClr val="8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действий</a:t>
              </a:r>
              <a:endParaRPr b="0" lang="en-US" sz="1600" spc="-1" strike="noStrike">
                <a:solidFill>
                  <a:srgbClr val="8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«Лесенка</a:t>
              </a:r>
              <a:endParaRPr b="0" lang="en-US" sz="1600" spc="-1" strike="noStrike">
                <a:solidFill>
                  <a:srgbClr val="8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успеха»</a:t>
              </a:r>
              <a:endParaRPr b="0" lang="en-US" sz="1600" spc="-1" strike="noStrike">
                <a:solidFill>
                  <a:srgbClr val="8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800000"/>
                </a:solidFill>
                <a:latin typeface="Comic Sans MS"/>
              </a:endParaRPr>
            </a:p>
          </p:txBody>
        </p:sp>
        <p:sp>
          <p:nvSpPr>
            <p:cNvPr id="131" name="_s1032"/>
            <p:cNvSpPr/>
            <p:nvPr/>
          </p:nvSpPr>
          <p:spPr>
            <a:xfrm flipV="1">
              <a:off x="4354920" y="2698560"/>
              <a:ext cx="0" cy="61308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800000"/>
                </a:solidFill>
                <a:latin typeface="Comic Sans MS"/>
              </a:endParaRPr>
            </a:p>
          </p:txBody>
        </p:sp>
        <p:sp>
          <p:nvSpPr>
            <p:cNvPr id="132" name="_s1033"/>
            <p:cNvSpPr/>
            <p:nvPr/>
          </p:nvSpPr>
          <p:spPr>
            <a:xfrm>
              <a:off x="3526920" y="1471680"/>
              <a:ext cx="1655640" cy="122688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spcBef>
                  <a:spcPts val="4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Comic Sans MS"/>
                </a:rPr>
                <a:t>Знание</a:t>
              </a:r>
              <a:endParaRPr b="0" lang="en-US" sz="1900" spc="-1" strike="noStrike">
                <a:solidFill>
                  <a:srgbClr val="800000"/>
                </a:solidFill>
                <a:latin typeface="Comic Sans MS"/>
              </a:endParaRPr>
            </a:p>
            <a:p>
              <a:pPr algn="ctr">
                <a:spcBef>
                  <a:spcPts val="4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n-US" sz="1900" spc="-1" strike="noStrike">
                  <a:solidFill>
                    <a:srgbClr val="000000"/>
                  </a:solidFill>
                  <a:latin typeface="Comic Sans MS"/>
                </a:rPr>
                <a:t>содержания </a:t>
              </a:r>
              <a:endParaRPr b="0" lang="en-US" sz="1900" spc="-1" strike="noStrike">
                <a:solidFill>
                  <a:srgbClr val="800000"/>
                </a:solidFill>
                <a:latin typeface="Comic Sans MS"/>
              </a:endParaRPr>
            </a:p>
            <a:p>
              <a:pPr algn="ctr">
                <a:spcBef>
                  <a:spcPts val="4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Comic Sans MS"/>
                </a:rPr>
                <a:t>произведения.</a:t>
              </a:r>
              <a:endParaRPr b="0" lang="en-US" sz="1900" spc="-1" strike="noStrike">
                <a:solidFill>
                  <a:srgbClr val="8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800000"/>
                </a:solidFill>
                <a:latin typeface="Comic Sans MS"/>
              </a:endParaRPr>
            </a:p>
          </p:txBody>
        </p:sp>
        <p:sp>
          <p:nvSpPr>
            <p:cNvPr id="133" name="_s1034"/>
            <p:cNvSpPr/>
            <p:nvPr/>
          </p:nvSpPr>
          <p:spPr>
            <a:xfrm>
              <a:off x="3526920" y="3312360"/>
              <a:ext cx="1655640" cy="122688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900" spc="-1" strike="noStrike">
                  <a:solidFill>
                    <a:srgbClr val="800000"/>
                  </a:solidFill>
                  <a:latin typeface="Comic Sans MS"/>
                </a:rPr>
                <a:t>«5»</a:t>
              </a:r>
              <a:endParaRPr b="0" lang="en-US" sz="3900" spc="-1" strike="noStrike">
                <a:solidFill>
                  <a:srgbClr val="8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59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Comic Sans MS"/>
              </a:rPr>
              <a:t>Благодарю за урок!</a:t>
            </a: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pic>
        <p:nvPicPr>
          <p:cNvPr id="135" name="Picture 12" descr="image029"/>
          <p:cNvPicPr/>
          <p:nvPr/>
        </p:nvPicPr>
        <p:blipFill>
          <a:blip r:embed="rId1"/>
          <a:stretch/>
        </p:blipFill>
        <p:spPr>
          <a:xfrm>
            <a:off x="3132000" y="3429000"/>
            <a:ext cx="2997360" cy="22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708000" y="691920"/>
            <a:ext cx="5040360" cy="511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Comic Sans MS"/>
              </a:rPr>
              <a:t>«Человек должен быть умен, прост, справедлив, смел и добр. Только тогда он имеет право носить это высокое звание – </a:t>
            </a:r>
            <a:r>
              <a:rPr b="1" lang="ru-RU" sz="4000" spc="-1" strike="noStrike">
                <a:solidFill>
                  <a:srgbClr val="800000"/>
                </a:solidFill>
                <a:latin typeface="Comic Sans MS"/>
              </a:rPr>
              <a:t>Человек</a:t>
            </a:r>
            <a:r>
              <a:rPr b="1" lang="ru-RU" sz="3600" spc="-1" strike="noStrike">
                <a:solidFill>
                  <a:srgbClr val="800000"/>
                </a:solidFill>
                <a:latin typeface="Comic Sans MS"/>
              </a:rPr>
              <a:t>»</a:t>
            </a: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800000"/>
                </a:solidFill>
                <a:latin typeface="Comic Sans MS"/>
              </a:rPr>
              <a:t>     </a:t>
            </a:r>
            <a:r>
              <a:rPr b="0" i="1" lang="ru-RU" sz="3200" spc="-1" strike="noStrike">
                <a:solidFill>
                  <a:srgbClr val="800000"/>
                </a:solidFill>
                <a:latin typeface="Comic Sans MS"/>
              </a:rPr>
              <a:t>К. Г. Паустовский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3" name="Дата 3"/>
          <p:cNvSpPr/>
          <p:nvPr/>
        </p:nvSpPr>
        <p:spPr>
          <a:xfrm>
            <a:off x="50004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4671E-A6A2-4A63-A4A4-2120CEB16776}" type="datetime">
              <a:rPr b="0" lang="ru-RU" sz="1200" spc="-1" strike="noStrike">
                <a:solidFill>
                  <a:srgbClr val="ac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54" name="Номер слайда 4"/>
          <p:cNvSpPr/>
          <p:nvPr/>
        </p:nvSpPr>
        <p:spPr>
          <a:xfrm>
            <a:off x="6858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22D59-74D8-4FC0-A24C-7D48CD9679F4}" type="slidenum">
              <a:rPr b="0" lang="ru-RU" sz="1200" spc="-1" strike="noStrike">
                <a:solidFill>
                  <a:srgbClr val="ac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00000"/>
              </a:solidFill>
              <a:latin typeface="Comic Sans MS"/>
            </a:endParaRPr>
          </a:p>
        </p:txBody>
      </p:sp>
      <p:pic>
        <p:nvPicPr>
          <p:cNvPr id="55" name="Picture 12" descr="КГПаустовский"/>
          <p:cNvPicPr/>
          <p:nvPr/>
        </p:nvPicPr>
        <p:blipFill>
          <a:blip r:embed="rId1"/>
          <a:stretch/>
        </p:blipFill>
        <p:spPr>
          <a:xfrm>
            <a:off x="249120" y="1195560"/>
            <a:ext cx="3475080" cy="40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Calibri"/>
              </a:rPr>
              <a:t>О каких качествах  говорит </a:t>
            </a:r>
            <a:br>
              <a:rPr sz="4400"/>
            </a:br>
            <a:r>
              <a:rPr b="1" lang="ru-RU" sz="4400" spc="-1" strike="noStrike">
                <a:solidFill>
                  <a:srgbClr val="800000"/>
                </a:solidFill>
                <a:latin typeface="Calibri"/>
              </a:rPr>
              <a:t>К. Г. Паустовский?</a:t>
            </a:r>
            <a:r>
              <a:rPr b="0" lang="ru-RU" sz="4400" spc="-1" strike="noStrike">
                <a:solidFill>
                  <a:srgbClr val="800000"/>
                </a:solidFill>
                <a:latin typeface="Calibri"/>
              </a:rPr>
              <a:t> </a:t>
            </a:r>
            <a:r>
              <a:rPr b="0" i="1" lang="ru-RU" sz="4400" spc="-1" strike="noStrike">
                <a:solidFill>
                  <a:srgbClr val="800000"/>
                </a:solidFill>
                <a:latin typeface="Comic Sans MS"/>
              </a:rPr>
              <a:t> </a:t>
            </a: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3715920" y="1989000"/>
            <a:ext cx="497052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Comic Sans MS"/>
              </a:rPr>
              <a:t>Доброта, 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Comic Sans MS"/>
              </a:rPr>
              <a:t>милосердие,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Comic Sans MS"/>
              </a:rPr>
              <a:t>сострадание,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Comic Sans MS"/>
              </a:rPr>
              <a:t>совесть, 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Comic Sans MS"/>
              </a:rPr>
              <a:t>отзывчивость,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Comic Sans MS"/>
              </a:rPr>
              <a:t>честность,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Comic Sans MS"/>
              </a:rPr>
              <a:t>справедливость. </a:t>
            </a:r>
            <a:br>
              <a:rPr sz="3200"/>
            </a:b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8" name="Дата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BC6A8-415D-42C4-AE5D-7CFB9D7B00A4}" type="datetime">
              <a:rPr b="0" lang="ru-RU" sz="1200" spc="-1" strike="noStrike">
                <a:solidFill>
                  <a:srgbClr val="ac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59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5DCBC-2793-4FAD-A2E3-40FF73D69CBE}" type="slidenum">
              <a:rPr b="0" lang="ru-RU" sz="1200" spc="-1" strike="noStrike">
                <a:solidFill>
                  <a:srgbClr val="ac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00000"/>
              </a:solidFill>
              <a:latin typeface="Comic Sans MS"/>
            </a:endParaRPr>
          </a:p>
        </p:txBody>
      </p:sp>
      <p:pic>
        <p:nvPicPr>
          <p:cNvPr id="60" name="Picture 6" descr="вопросительный"/>
          <p:cNvPicPr/>
          <p:nvPr/>
        </p:nvPicPr>
        <p:blipFill>
          <a:blip r:embed="rId1"/>
          <a:stretch/>
        </p:blipFill>
        <p:spPr>
          <a:xfrm>
            <a:off x="762120" y="2139840"/>
            <a:ext cx="2955960" cy="295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2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2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20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20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20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20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20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2000" fill="hold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2000" fill="hold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29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Arial"/>
              </a:rPr>
              <a:t>Тема урока:_______________      </a:t>
            </a: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708000" y="1916280"/>
            <a:ext cx="497844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Comic Sans MS"/>
              </a:rPr>
              <a:t>Нравственность </a:t>
            </a:r>
            <a:r>
              <a:rPr b="1" i="1" lang="ru-RU" sz="2800" spc="-1" strike="noStrike">
                <a:solidFill>
                  <a:srgbClr val="800000"/>
                </a:solidFill>
                <a:latin typeface="Comic Sans MS"/>
              </a:rPr>
              <a:t>– </a:t>
            </a:r>
            <a:r>
              <a:rPr b="0" i="1" lang="ru-RU" sz="2600" spc="-1" strike="noStrike">
                <a:solidFill>
                  <a:srgbClr val="800000"/>
                </a:solidFill>
                <a:latin typeface="Comic Sans MS"/>
              </a:rPr>
              <a:t>внутренние духовные  качества, которыми руководствуется человек; </a:t>
            </a:r>
            <a:endParaRPr b="0" lang="en-US" sz="2600" spc="-1" strike="noStrike">
              <a:solidFill>
                <a:srgbClr val="8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800000"/>
                </a:solidFill>
                <a:latin typeface="Arial"/>
              </a:rPr>
              <a:t>   </a:t>
            </a:r>
            <a:r>
              <a:rPr b="0" i="1" lang="ru-RU" sz="2600" spc="-1" strike="noStrike">
                <a:solidFill>
                  <a:srgbClr val="800000"/>
                </a:solidFill>
                <a:latin typeface="Comic Sans MS"/>
              </a:rPr>
              <a:t>правила поведения, определённые   этими качествами.</a:t>
            </a:r>
            <a:endParaRPr b="0" lang="en-US" sz="2600" spc="-1" strike="noStrike">
              <a:solidFill>
                <a:srgbClr val="800000"/>
              </a:solidFill>
              <a:latin typeface="Calibri"/>
            </a:endParaRPr>
          </a:p>
          <a:p>
            <a:pPr marL="34308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800000"/>
                </a:solidFill>
                <a:latin typeface="Comic Sans MS"/>
              </a:rPr>
              <a:t>            </a:t>
            </a:r>
            <a:r>
              <a:rPr b="0" i="1" lang="ru-RU" sz="2600" spc="-1" strike="noStrike">
                <a:solidFill>
                  <a:srgbClr val="800000"/>
                </a:solidFill>
                <a:latin typeface="Comic Sans MS"/>
              </a:rPr>
              <a:t>(</a:t>
            </a:r>
            <a:r>
              <a:rPr b="0" lang="ru-RU" sz="2000" spc="-1" strike="noStrike">
                <a:solidFill>
                  <a:srgbClr val="800000"/>
                </a:solidFill>
                <a:latin typeface="Comic Sans MS"/>
              </a:rPr>
              <a:t>С.И. Ожегов, Н.Ю. Шведова    «Толковый словарь русского языка»)</a:t>
            </a:r>
            <a:endParaRPr b="0" lang="en-US" sz="2000" spc="-1" strike="noStrike">
              <a:solidFill>
                <a:srgbClr val="800000"/>
              </a:solidFill>
              <a:latin typeface="Calibri"/>
            </a:endParaRPr>
          </a:p>
        </p:txBody>
      </p:sp>
      <p:pic>
        <p:nvPicPr>
          <p:cNvPr id="63" name="Picture 6" descr="вопросительный"/>
          <p:cNvPicPr/>
          <p:nvPr/>
        </p:nvPicPr>
        <p:blipFill>
          <a:blip r:embed="rId1"/>
          <a:stretch/>
        </p:blipFill>
        <p:spPr>
          <a:xfrm>
            <a:off x="615960" y="2352600"/>
            <a:ext cx="2949480" cy="29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Comic Sans MS"/>
              </a:rPr>
              <a:t>«Рассыпанные открытки»</a:t>
            </a: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pic>
        <p:nvPicPr>
          <p:cNvPr id="65" name="Picture 7" descr="вопросительный"/>
          <p:cNvPicPr/>
          <p:nvPr/>
        </p:nvPicPr>
        <p:blipFill>
          <a:blip r:embed="rId1"/>
          <a:stretch/>
        </p:blipFill>
        <p:spPr>
          <a:xfrm>
            <a:off x="900000" y="1844640"/>
            <a:ext cx="2810160" cy="280980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Calibri"/>
              </a:rPr>
              <a:t>Назовите произведение. 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Calibri"/>
              </a:rPr>
              <a:t>Соберите открытки в нужной последовательности.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Calibri"/>
              </a:rPr>
              <a:t>Объясните название.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Comic Sans MS"/>
              </a:rPr>
              <a:t>«Теплый хлеб»</a:t>
            </a: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Comic Sans MS"/>
              </a:rPr>
              <a:t>Теплый</a:t>
            </a:r>
            <a:endParaRPr b="0" lang="en-US" sz="3600" spc="-1" strike="noStrike">
              <a:solidFill>
                <a:srgbClr val="8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Comic Sans MS"/>
              </a:rPr>
              <a:t>Хлеб</a:t>
            </a:r>
            <a:endParaRPr b="0" lang="en-US" sz="3600" spc="-1" strike="noStrike">
              <a:solidFill>
                <a:srgbClr val="8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5280" y="54936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Comic Sans MS"/>
              </a:rPr>
              <a:t>Единство мира людей, природы, животных.</a:t>
            </a:r>
            <a:endParaRPr b="0" lang="en-US" sz="4000" spc="-1" strike="noStrike">
              <a:solidFill>
                <a:srgbClr val="800000"/>
              </a:solidFill>
              <a:latin typeface="Calibri"/>
            </a:endParaRPr>
          </a:p>
        </p:txBody>
      </p:sp>
      <p:pic>
        <p:nvPicPr>
          <p:cNvPr id="70" name="Picture 7" descr="дух зимы"/>
          <p:cNvPicPr/>
          <p:nvPr/>
        </p:nvPicPr>
        <p:blipFill>
          <a:blip r:embed="rId1"/>
          <a:stretch/>
        </p:blipFill>
        <p:spPr>
          <a:xfrm>
            <a:off x="5076720" y="2565360"/>
            <a:ext cx="3600720" cy="28148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8" descr="филька с трудом вернулся в дом"/>
          <p:cNvPicPr/>
          <p:nvPr/>
        </p:nvPicPr>
        <p:blipFill>
          <a:blip r:embed="rId2"/>
          <a:stretch/>
        </p:blipFill>
        <p:spPr>
          <a:xfrm>
            <a:off x="250920" y="2565360"/>
            <a:ext cx="3960720" cy="27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Comic Sans MS"/>
              </a:rPr>
              <a:t>Умение видеть последствия –главное отличие человека</a:t>
            </a:r>
            <a:endParaRPr b="0" lang="en-US" sz="4000" spc="-1" strike="noStrike">
              <a:solidFill>
                <a:srgbClr val="800000"/>
              </a:solidFill>
              <a:latin typeface="Calibri"/>
            </a:endParaRPr>
          </a:p>
        </p:txBody>
      </p:sp>
      <p:pic>
        <p:nvPicPr>
          <p:cNvPr id="73" name="Picture 4" descr="680049"/>
          <p:cNvPicPr/>
          <p:nvPr/>
        </p:nvPicPr>
        <p:blipFill>
          <a:blip r:embed="rId1"/>
          <a:stretch/>
        </p:blipFill>
        <p:spPr>
          <a:xfrm>
            <a:off x="1639800" y="2206800"/>
            <a:ext cx="5883480" cy="39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94920" y="1412640"/>
            <a:ext cx="8373960" cy="36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Comic Sans MS"/>
              </a:rPr>
              <a:t>«Быть человеком означает постоянно сталкиваться с ситуацией, которая одновременно и шанс, и выбор»</a:t>
            </a:r>
            <a:br>
              <a:rPr sz="3600"/>
            </a:br>
            <a:br>
              <a:rPr sz="3600"/>
            </a:br>
            <a:r>
              <a:rPr b="0" lang="ru-RU" sz="3600" spc="-1" strike="noStrike">
                <a:solidFill>
                  <a:srgbClr val="800000"/>
                </a:solidFill>
                <a:latin typeface="Comic Sans MS"/>
              </a:rPr>
              <a:t>                                            В. Франкл</a:t>
            </a:r>
            <a:endParaRPr b="0" lang="en-US" sz="3600" spc="-1" strike="noStrike">
              <a:solidFill>
                <a:srgbClr val="8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3T15:23:59Z</dcterms:created>
  <dc:creator/>
  <dc:description/>
  <dc:language>en-US</dc:language>
  <cp:lastModifiedBy/>
  <dcterms:modified xsi:type="dcterms:W3CDTF">2021-03-03T12:19:22Z</dcterms:modified>
  <cp:revision>28</cp:revision>
  <dc:subject/>
  <dc:title/>
</cp:coreProperties>
</file>