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png" ContentType="image/png"/>
  <Override PartName="/ppt/media/image3.png" ContentType="image/png"/>
  <Override PartName="/ppt/media/image11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4.gif" ContentType="image/gi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BE4-EE3B-4171-9189-BECD1A99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11F-11CC-4FF9-9211-A58CAD31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987-2A3A-4A66-8D75-F0C304E9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AF7-5CE9-47D5-B64C-AA5F52CC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D64-2430-47E8-8E0B-F2D4C3A6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42D-D34A-48F3-AA09-1FD8D7CB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7F3-0896-43F8-BBFD-A1BF3994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7F8-97D8-4294-BB97-5B21178F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350-88E4-400C-9CB9-5DC8E0A8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E6B-5D54-4652-9836-970AA044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22B-A3C6-4A51-878F-965C89BB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49E-CA61-4136-A492-E53A86B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C6D0-3CC2-48A5-873A-D9F0C7A257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684360" y="2133720"/>
            <a:ext cx="82087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рок литературы в  8 клас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ман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.Е. Салтыкова-Щед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История одного го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 рус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БУ «Школа № 28» г.о. Тольят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ырц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139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еологизм М.Е.Салтыкова-Щедр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3049560"/>
            <a:ext cx="8642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Головотяп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ловек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й ведёт дела безответственно и бестолков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ловотяпств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йняя небрежность и бестолковость ведения какого – либо де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чины головотяп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сговорчив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Недоброжелатель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Необразованность, темнота, забит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обственное варвар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Рабская привычка народа к повиновению, его бесправие, смир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i?id=563086939-58-72&amp;n=21"/>
          <p:cNvPicPr/>
          <p:nvPr/>
        </p:nvPicPr>
        <p:blipFill>
          <a:blip r:embed="rId1"/>
          <a:srcRect l="7134" t="0" r="11910" b="0"/>
          <a:stretch/>
        </p:blipFill>
        <p:spPr>
          <a:xfrm>
            <a:off x="5940360" y="1989000"/>
            <a:ext cx="2952720" cy="21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книги и свеча"/>
          <p:cNvPicPr/>
          <p:nvPr/>
        </p:nvPicPr>
        <p:blipFill>
          <a:blip r:embed="rId2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0560" y="692280"/>
            <a:ext cx="66358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Головотяпы и другие пле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5320" y="2133720"/>
          <a:ext cx="6720120" cy="4465440"/>
        </p:xfrm>
        <a:graphic>
          <a:graphicData uri="http://schemas.openxmlformats.org/drawingml/2006/table">
            <a:tbl>
              <a:tblPr/>
              <a:tblGrid>
                <a:gridCol w="6720120"/>
              </a:tblGrid>
              <a:tr h="68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ислоух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апшее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лбежники 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ущее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ягушечни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уралес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ржееды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леные уш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янишни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юковни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ертячие боб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апотни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рнонеб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653B-0B67-44D9-89B6-FE5BB79129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286-F7B0-43A9-A2C7-3EB114331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книги и свеча"/>
          <p:cNvPicPr/>
          <p:nvPr/>
        </p:nvPicPr>
        <p:blipFill>
          <a:blip r:embed="rId1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6635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чувствуй себя сатириком Щедри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79280" y="2133720"/>
            <a:ext cx="6707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название можно дать жителям Самар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i?id=710303824-60-72&amp;n=21"/>
          <p:cNvPicPr/>
          <p:nvPr/>
        </p:nvPicPr>
        <p:blipFill>
          <a:blip r:embed="rId1"/>
          <a:stretch/>
        </p:blipFill>
        <p:spPr>
          <a:xfrm>
            <a:off x="2998800" y="3224160"/>
            <a:ext cx="3219480" cy="3505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книги и свеча"/>
          <p:cNvPicPr/>
          <p:nvPr/>
        </p:nvPicPr>
        <p:blipFill>
          <a:blip r:embed="rId2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280" y="907920"/>
            <a:ext cx="72010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логизм – примета гротеска,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едельно резкого  преувеличения, сочетания реального и фантастического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гда же лгали, то прибавляли «да будет мне стыдно…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Таким образом  взаимно разорили они свои земли … и в то же время гордились тем,..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Началось с того, что … 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0" descr="книги и свеча"/>
          <p:cNvPicPr/>
          <p:nvPr/>
        </p:nvPicPr>
        <p:blipFill>
          <a:blip r:embed="rId1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70675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Близость фолькло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18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изация сказ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 и повел их вор-новатор сначала все ельничком да березничком…», «три года и три дня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сонаж-помощ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омысл, пошехонец - слепород, чухломец -рукосуй, вор-новото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оянные эпите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добрый молод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ербол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гибель в болоте, характеристика своих качеств- «нет мудрее и храбрее»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книги и свеча"/>
          <p:cNvPicPr/>
          <p:nvPr/>
        </p:nvPicPr>
        <p:blipFill>
          <a:blip r:embed="rId1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836280"/>
            <a:ext cx="7210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Аллю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дна из форм иносказания, употребление какого-либо слова, фразы, цитаты в качестве намека на общеизвестный факт - литературный, бытовой, общественно-политиче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книги и свеча"/>
          <p:cNvPicPr/>
          <p:nvPr/>
        </p:nvPicPr>
        <p:blipFill>
          <a:blip r:embed="rId1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9520" y="981000"/>
            <a:ext cx="7210440" cy="15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Arial"/>
              </a:rPr>
              <a:t>СЛОВО О ПОЛКУ ИГОРЕВЕ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евод Н.Заболоцког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19280" y="2349000"/>
            <a:ext cx="7067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 пора ль нам, братия, нача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 походе Игоревом слов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тоб старинной речью рассказа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о деянья князя удалого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воспеть нам, братия, его 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похвалу трудам его и ранам 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 былинам времени сег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 гоняясь мыслью за Бояном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Тот Боян, исполнен дивных сил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Приступая к вещему напеву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Серым волком по полю кружил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Как орел, под облаком парил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Растекался мыслию по древ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63D2-1AC8-44EF-B3A5-519F8D39797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B4DD-AAC1-483B-8B4C-E86BEA9C7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http://im7-tub-ru.yandex.net/i?id=984184730-22-72&amp;n=21"/>
          <p:cNvPicPr/>
          <p:nvPr/>
        </p:nvPicPr>
        <p:blipFill>
          <a:blip r:embed="rId1"/>
          <a:srcRect l="310" t="25624" r="10750" b="0"/>
          <a:stretch/>
        </p:blipFill>
        <p:spPr>
          <a:xfrm>
            <a:off x="6456240" y="2565360"/>
            <a:ext cx="219240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книги и свеча"/>
          <p:cNvPicPr/>
          <p:nvPr/>
        </p:nvPicPr>
        <p:blipFill>
          <a:blip r:embed="rId2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ллю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63280" y="1341000"/>
            <a:ext cx="352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.В. Го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Тарас Бульб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Всех, кто не стоял, разобрала сильно такая речь, дошед далеко, до самого сердца. Самые старейшие в рядах стали неподвижны, потупив седые головы в землю; слеза тихо накатывалась в старых очах; медленно отирали они её рукавом. И потом все, как будто сговорившись, махнули в одно время рукою и потрясли бывалыми головам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8" descr="каз2"/>
          <p:cNvPicPr/>
          <p:nvPr/>
        </p:nvPicPr>
        <p:blipFill>
          <a:blip r:embed="rId1"/>
          <a:stretch/>
        </p:blipFill>
        <p:spPr>
          <a:xfrm>
            <a:off x="5364000" y="2637000"/>
            <a:ext cx="3435480" cy="202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книги и свеча"/>
          <p:cNvPicPr/>
          <p:nvPr/>
        </p:nvPicPr>
        <p:blipFill>
          <a:blip r:embed="rId2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ллю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4508280"/>
            <a:ext cx="87854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С. Пушкин « Капитанская дочка»( гл. 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Невозможно рассказать, какое действие произвела на меня эта простонародная песня про виселицу, распеваемая людьми, обреченными виселице. Их грозные лица, стройные голоса, унылое выражение, которое придавали они словам и без того выразительным,- все потрясло меня каким-то пиитическим ужасо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дубрава"/>
          <p:cNvPicPr/>
          <p:nvPr/>
        </p:nvPicPr>
        <p:blipFill>
          <a:blip r:embed="rId1"/>
          <a:srcRect l="10180" t="5996" r="11507" b="6122"/>
          <a:stretch/>
        </p:blipFill>
        <p:spPr>
          <a:xfrm>
            <a:off x="2546280" y="1341360"/>
            <a:ext cx="4114800" cy="307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ниги и свеча"/>
          <p:cNvPicPr/>
          <p:nvPr/>
        </p:nvPicPr>
        <p:blipFill>
          <a:blip r:embed="rId2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  <p:pic>
        <p:nvPicPr>
          <p:cNvPr id="111" name="обрезка (mp3cut.net).mp3" descr=""/>
          <p:cNvPicPr/>
          <p:nvPr/>
        </p:nvPicPr>
        <p:blipFill>
          <a:blip r:embed="rId3"/>
          <a:stretch/>
        </p:blipFill>
        <p:spPr>
          <a:xfrm>
            <a:off x="7392960" y="1525680"/>
            <a:ext cx="7812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180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67788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амовластье принесло головотяпам бе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 будете вы платить мне дани мног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гда же пойду на войну - и вы идите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А до прочего вам ни до чего дела н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 тех, которым ни до чего дела нет, я буду миловать; прочих же всех – казни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книги и свеча"/>
          <p:cNvPicPr/>
          <p:nvPr/>
        </p:nvPicPr>
        <p:blipFill>
          <a:blip r:embed="rId1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5"/>
          <p:cNvSpPr/>
          <p:nvPr/>
        </p:nvSpPr>
        <p:spPr>
          <a:xfrm>
            <a:off x="539640" y="299736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Читать произведения Салтыкова-Щедрина – значит расшифровывать хитрую тайнопис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. Гонч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книги и свеча"/>
          <p:cNvPicPr/>
          <p:nvPr/>
        </p:nvPicPr>
        <p:blipFill>
          <a:blip r:embed="rId1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12960" y="691920"/>
            <a:ext cx="6873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81bd"/>
                </a:solidFill>
                <a:latin typeface="Monotype Corsiv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лава</a:t>
            </a:r>
            <a:br>
              <a:rPr sz="4000"/>
            </a:br>
            <a:r>
              <a:rPr b="1" lang="ru-RU" sz="3600" spc="-1" strike="noStrike">
                <a:solidFill>
                  <a:srgbClr val="4f81bd"/>
                </a:solidFill>
                <a:latin typeface="Comic Sans MS"/>
              </a:rPr>
              <a:t> «О корени происхождения глуповцев» </a:t>
            </a:r>
            <a:r>
              <a:rPr b="1" lang="ru-RU" sz="4000" spc="-1" strike="noStrike">
                <a:solidFill>
                  <a:srgbClr val="4f81bd"/>
                </a:solidFill>
                <a:latin typeface="Comic Sans MS"/>
              </a:rPr>
              <a:t>-</a:t>
            </a: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люч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 роману </a:t>
            </a:r>
            <a:r>
              <a:rPr b="0" lang="ru-RU" sz="4000" spc="-1" strike="noStrike">
                <a:solidFill>
                  <a:srgbClr val="4f81bd"/>
                </a:solidFill>
                <a:latin typeface="Comic Sans MS"/>
              </a:rPr>
              <a:t>«История одного горо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mso8F754"/>
          <p:cNvPicPr/>
          <p:nvPr/>
        </p:nvPicPr>
        <p:blipFill>
          <a:blip r:embed="rId1"/>
          <a:stretch/>
        </p:blipFill>
        <p:spPr>
          <a:xfrm>
            <a:off x="328680" y="3498840"/>
            <a:ext cx="2968560" cy="317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image920"/>
          <p:cNvPicPr/>
          <p:nvPr/>
        </p:nvPicPr>
        <p:blipFill>
          <a:blip r:embed="rId2"/>
          <a:stretch/>
        </p:blipFill>
        <p:spPr>
          <a:xfrm>
            <a:off x="1047600" y="3500280"/>
            <a:ext cx="909720" cy="795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image029"/>
          <p:cNvPicPr/>
          <p:nvPr/>
        </p:nvPicPr>
        <p:blipFill>
          <a:blip r:embed="rId3"/>
          <a:stretch/>
        </p:blipFill>
        <p:spPr>
          <a:xfrm>
            <a:off x="3649680" y="3500280"/>
            <a:ext cx="2997360" cy="2248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539640" y="2421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книги и свеча"/>
          <p:cNvPicPr/>
          <p:nvPr/>
        </p:nvPicPr>
        <p:blipFill>
          <a:blip r:embed="rId4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6562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важаемы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Михаил Евграфович,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я понял Вас…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        я хочу сказать…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         я почувствовал…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я узнал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D713-29C0-47C6-A928-15D892CF7E2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00E-F9C2-4278-A80F-7388C443A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Салтыков2"/>
          <p:cNvPicPr/>
          <p:nvPr/>
        </p:nvPicPr>
        <p:blipFill>
          <a:blip r:embed="rId1"/>
          <a:stretch/>
        </p:blipFill>
        <p:spPr>
          <a:xfrm>
            <a:off x="1017720" y="2657520"/>
            <a:ext cx="3170160" cy="719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книги и свеча"/>
          <p:cNvPicPr/>
          <p:nvPr/>
        </p:nvPicPr>
        <p:blipFill>
          <a:blip r:embed="rId2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заполни таблицу, проанализируй полученные данные, сделай 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укоизобразитель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характеристика головотя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Comic Sans MS"/>
              </a:rPr>
              <a:t>Галдень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е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omic Sans MS"/>
              </a:rPr>
              <a:t>Вздох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Comic Sans MS"/>
              </a:rPr>
              <a:t>Воп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ыд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20464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рты характер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Comic Sans MS"/>
              </a:rPr>
              <a:t>Несговорчив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omic Sans MS"/>
              </a:rPr>
              <a:t>Покор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Comic Sans MS"/>
              </a:rPr>
              <a:t>Забит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Благодарю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40D-57FD-4C3C-8964-760FA46323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C63D-C4D9-443D-BFCB-1CB9FBCE72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68515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нять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мысл произведения поможе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3213000"/>
            <a:ext cx="8435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иография ав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ировоззрение авт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держание текс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и иде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едства вырази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0" descr="книги и свеча"/>
          <p:cNvPicPr/>
          <p:nvPr/>
        </p:nvPicPr>
        <p:blipFill>
          <a:blip r:embed="rId1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67788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ихаил Евграфович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Салтыков-Щедрин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27.01.1826-10.05.188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2492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omic Sans MS"/>
              </a:rPr>
              <a:t>видный государственный дея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оветник губернского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отрудник Министерства внутренних д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ице-губернатор Рязани, Тве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озглавлял казенные пала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пис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едактор журнала «Современник»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2" descr="i (1)"/>
          <p:cNvPicPr/>
          <p:nvPr/>
        </p:nvPicPr>
        <p:blipFill>
          <a:blip r:embed="rId1"/>
          <a:stretch/>
        </p:blipFill>
        <p:spPr>
          <a:xfrm>
            <a:off x="785880" y="2468520"/>
            <a:ext cx="3627360" cy="415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книги и свеча"/>
          <p:cNvPicPr/>
          <p:nvPr/>
        </p:nvPicPr>
        <p:blipFill>
          <a:blip r:embed="rId2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12960" y="907560"/>
            <a:ext cx="68738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Жизненная позиц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.Е. Салтыкова-Щедрина – восстановление справедл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3213000"/>
            <a:ext cx="4171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сударственный дея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лтыков - Щедрин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имал участие в разработке крестьянской реформы, контролировал судебные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3213000"/>
            <a:ext cx="4038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исатель Щед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ич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роки общест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стно и прямо говор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 недостатках в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книги и свеча"/>
          <p:cNvPicPr/>
          <p:nvPr/>
        </p:nvPicPr>
        <p:blipFill>
          <a:blip r:embed="rId1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ман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.Е. Салтыкова – Щед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История одного город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 художественно-политическая сатир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лава: «О корени происхождения глуповце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0" descr="книги и свеча"/>
          <p:cNvPicPr/>
          <p:nvPr/>
        </p:nvPicPr>
        <p:blipFill>
          <a:blip r:embed="rId1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836280"/>
            <a:ext cx="7057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omic Sans MS"/>
              </a:rPr>
              <a:t>Словарик литературоведческих терминов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781000"/>
            <a:ext cx="8147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атир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обличительное литературное произведение, изображающее отрицательные явления жизни в смешном, уродливом ви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атирические прием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иро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- осмеяние, имеющее двойной смысл, где истинным является не прямое высказывание, а противополож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арказ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- едкая и ядовитая иро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зко изобличающая явл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обо опасные для человека и общ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4" descr="книги"/>
          <p:cNvPicPr/>
          <p:nvPr/>
        </p:nvPicPr>
        <p:blipFill>
          <a:blip r:embed="rId1"/>
          <a:stretch/>
        </p:blipFill>
        <p:spPr>
          <a:xfrm>
            <a:off x="7524720" y="5191200"/>
            <a:ext cx="1381320" cy="1666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книги"/>
          <p:cNvPicPr/>
          <p:nvPr/>
        </p:nvPicPr>
        <p:blipFill>
          <a:blip r:embed="rId2"/>
          <a:stretch/>
        </p:blipFill>
        <p:spPr>
          <a:xfrm>
            <a:off x="7524720" y="5191200"/>
            <a:ext cx="1381320" cy="1666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книги и свеча"/>
          <p:cNvPicPr/>
          <p:nvPr/>
        </p:nvPicPr>
        <p:blipFill>
          <a:blip r:embed="rId3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70716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omic Sans MS"/>
              </a:rPr>
              <a:t>Словарик литературоведческих терми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640" y="2491920"/>
            <a:ext cx="6416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Иносказание,  аллегория 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иной смысл, скрытый за внешней формо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"Эзопов язык" 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художественная речь, основанная на вынужденном иносказа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Гипербол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 - чрезмерное преувелич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6" descr="Салтыков"/>
          <p:cNvPicPr/>
          <p:nvPr/>
        </p:nvPicPr>
        <p:blipFill>
          <a:blip r:embed="rId1"/>
          <a:stretch/>
        </p:blipFill>
        <p:spPr>
          <a:xfrm>
            <a:off x="201600" y="3456000"/>
            <a:ext cx="2674800" cy="3189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2700360" y="443700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omic Sans MS"/>
              </a:rPr>
              <a:t>Эти и другие  сатирические приемы  помогают понять смысл произвед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omic Sans MS"/>
              </a:rPr>
              <a:t>М.Е.Салтыкова-Щед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книги"/>
          <p:cNvPicPr/>
          <p:nvPr/>
        </p:nvPicPr>
        <p:blipFill>
          <a:blip r:embed="rId2"/>
          <a:stretch/>
        </p:blipFill>
        <p:spPr>
          <a:xfrm>
            <a:off x="7308720" y="4869000"/>
            <a:ext cx="1381320" cy="166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книги и свеча"/>
          <p:cNvPicPr/>
          <p:nvPr/>
        </p:nvPicPr>
        <p:blipFill>
          <a:blip r:embed="rId3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mso1A5D9"/>
          <p:cNvPicPr/>
          <p:nvPr/>
        </p:nvPicPr>
        <p:blipFill>
          <a:blip r:embed="rId1"/>
          <a:stretch/>
        </p:blipFill>
        <p:spPr>
          <a:xfrm>
            <a:off x="304920" y="2925720"/>
            <a:ext cx="2457360" cy="3237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71280" y="2023920"/>
            <a:ext cx="403236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«Исто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одного города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личайш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тирическое произвед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котором показаны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линные собы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факты русской жизни,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нятые  автор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уровень грандиозного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031840" y="349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109960" y="700200"/>
            <a:ext cx="660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Comic Sans MS"/>
              </a:rPr>
              <a:t>Историческая основа 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книги и свеча"/>
          <p:cNvPicPr/>
          <p:nvPr/>
        </p:nvPicPr>
        <p:blipFill>
          <a:blip r:embed="rId2"/>
          <a:stretch/>
        </p:blipFill>
        <p:spPr>
          <a:xfrm>
            <a:off x="324000" y="695160"/>
            <a:ext cx="1485720" cy="201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so257C5"/>
          <p:cNvPicPr/>
          <p:nvPr/>
        </p:nvPicPr>
        <p:blipFill>
          <a:blip r:embed="rId3"/>
          <a:stretch/>
        </p:blipFill>
        <p:spPr>
          <a:xfrm>
            <a:off x="6546960" y="2852640"/>
            <a:ext cx="238428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05:35:22Z</dcterms:created>
  <dc:creator/>
  <dc:description/>
  <dc:language>en-US</dc:language>
  <cp:lastModifiedBy/>
  <dcterms:modified xsi:type="dcterms:W3CDTF">2021-03-03T12:34:38Z</dcterms:modified>
  <cp:revision>55</cp:revision>
  <dc:subject/>
  <dc:title/>
</cp:coreProperties>
</file>