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36C-530A-496D-93D2-5E5EA8BA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6BBF-5D96-4A67-9160-5A397CFB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9DEA-2962-4EB7-B5E4-7E2F824C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DB3-468B-42C6-9C14-FF49FCE4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1349-183C-4A74-A776-54FB0D85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FB85-7D19-4437-A381-BD0B3BF9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EF66-C8B9-42B2-B658-2A865DD1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535A-A0FC-41C4-8DB5-161F68DA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DEF1-9C65-4396-95D2-62D826D2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80AB-2DA4-40CA-8A7A-F3CA7653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F151-D5D4-4C83-AF01-1C501FF1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52A-1D70-4E67-89D1-B8F96069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5858-32E6-4055-971B-F6DE7A54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DC49-6421-497D-A5B9-72D114C1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9D32-BD71-464D-8B6F-DD5D722C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6DC6-1E49-4095-BAC7-343C0448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D92D-E209-4F9A-B294-BDAC1981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B2EC1-E4A8-486E-8F66-D6CF3F05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24C29-DAC1-4814-9150-2CDA45AA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9D7C4-508F-4254-B085-0324BF76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7C19-3C64-433C-A0B0-46195A5B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8AB9-FFCB-44F9-AB7B-B07F583A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BDCE-47DC-4B8F-9698-2EECEAC3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B2F39-7C95-432C-AAC6-1B5E80D4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7FF2-497E-489B-928A-1310E43F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BA3F-6A06-4D0B-886D-BC95A893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12F57-FCD4-4829-AAC7-38097831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AA53-08CA-4EC2-ADE3-F198ECEC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44BE2-C7C7-4F25-A216-7E107E91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837D-9582-4A55-A02E-30F1FFE8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9568-7C6D-4FA2-9414-37A8BB7C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449E0-B252-4705-84F1-15E417F7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A9F8-7CA1-4339-80A7-9078822C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2C6-C780-4081-A464-C0528CFA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C6827-6580-425B-9903-119407FB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E06A-A2AB-42C4-AF11-4820D45A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0EE5E-F600-4087-BDF3-E22A9595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C2CFF-AEB4-4F58-9CA7-9B73D7C5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E297-77AB-43A8-9F31-3CB58F8B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E0AF-FDC4-4E81-84B5-72248A7A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E9956-8DA9-4E26-AA00-4053CD41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709C-7495-411B-9232-AB620517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85786-EC8B-4C3B-AB53-884E45E1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53437-FED0-447D-8180-B2A5370B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FE4-2A63-45AA-96B0-589AEF75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EBC28-C193-49F3-8739-50E98A60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3817B-91AC-4F25-8D93-B9803621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B95CA-A212-4410-89AA-8F47090F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D4DE4-B041-47AF-8DBE-E8536698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375A2-200B-4057-AF3D-DD4F5FE9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843D-ECE1-4241-B290-54365E0D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86FAD-1B46-492D-8635-270841ED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E45B4-0374-4EAB-8F56-AD68A9B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A166D-440D-4BDE-9AFE-E157ECC3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821C0-8F35-48F1-BF6F-CEA22FB8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7C3-7AB1-495A-8807-7FEEF41F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E5773-A722-4571-8026-5695FC8C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C6452-9570-4F16-8495-A8B5CD94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695B8-3991-44ED-BEEC-2B45657F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1AFD9-8929-4366-AC74-73D5B8B0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1DFAC-E476-49BA-8D2B-5A7B13F4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E8835-E9DF-46DA-9CFC-869CCBC6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84546-EC46-4AF1-B82D-F5C7E36C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DDB92-DE5F-4D99-97C2-15AA4BFC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02619-92E4-4108-9A91-7FE96C73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04D5B-B3DF-4E2B-86CF-86D2ED9E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5F58-831D-4734-A15B-38AAD9BD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15A8F-5A66-43BC-891B-454E93AD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5DC5-32DB-42A9-BC8E-96E698F2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B1E72-C9FF-4154-BBC0-4EC074AC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6C448-1D18-4F9E-A2D2-F30CB0F5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4AAAE-6EB2-4762-9745-B80C66E5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086D9-17A5-43C4-ABEB-EE1E099E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5362A-BEC6-4CEC-9D1D-5F079E5E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8BF30-C642-49AA-94E2-25C497B0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7F752-AC54-4B66-A37D-8375CC5D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B3D0C-409F-4B11-AE34-07CB8834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D66-8AD2-47EC-9684-00AEC7A4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9B8DE-CFB7-4CE2-A569-79593D1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77069-F0CE-4D74-92C9-D10E8251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E98C5-2898-4A1B-8069-7753538D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1F7C1-DADA-4FD7-A531-8CF6389D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FBEF7-23E8-4551-842B-D308F3E0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38D52-7190-4BF9-8D84-F9F443DB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2C368-BB8D-4B46-95F4-26E0B71D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8FF5C-0E99-452B-BD8C-A5888CFE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C91B1-41C1-4F3E-9E03-4C9B747D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C99CC-6608-4C16-B851-5D3EE025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A2A-6F35-48A1-8F34-3A1F6135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FE5B7-0DE4-4C21-BC3E-489380A1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AF26A-0B25-46EF-BFDF-447D01E6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89850-F59C-4C11-924D-116434EB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DFDB1-190B-40B3-9B25-5F4A3C4F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67FE9-F685-4260-8D8E-1CDA7CA8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BE159-FD5E-4B3E-AA81-A92596EB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48657-DAEC-41F3-B755-2475B71C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0209-6B51-4473-933F-736A8B49E624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CECE-19B0-4D2F-A62E-93675F5DCAD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667F-B27B-4CC2-AC1C-7744D5D3E550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7CD8-BA5B-4D87-8520-BC8DB18AA01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91A1-41B5-456D-90BF-DC81DF82AC5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4C57-D077-4FAA-8D27-9F2DE9E62C1B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7A3F-D572-4EF4-8B63-E22003813449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2861-C37C-4E18-9E6F-FE9B628BCDEF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13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Прямоугольник 4" descr=""/>
          <p:cNvPicPr/>
          <p:nvPr/>
        </p:nvPicPr>
        <p:blipFill>
          <a:blip r:embed="rId1"/>
          <a:stretch/>
        </p:blipFill>
        <p:spPr>
          <a:xfrm>
            <a:off x="109440" y="212760"/>
            <a:ext cx="8858520" cy="21096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3" descr="девочки.jpg"/>
          <p:cNvPicPr/>
          <p:nvPr/>
        </p:nvPicPr>
        <p:blipFill>
          <a:blip r:embed="rId2"/>
          <a:stretch/>
        </p:blipFill>
        <p:spPr>
          <a:xfrm>
            <a:off x="0" y="2205000"/>
            <a:ext cx="9144000" cy="457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9" descr="IMG_2682.JPG"/>
          <p:cNvPicPr/>
          <p:nvPr/>
        </p:nvPicPr>
        <p:blipFill>
          <a:blip r:embed="rId1"/>
          <a:stretch/>
        </p:blipFill>
        <p:spPr>
          <a:xfrm>
            <a:off x="3348000" y="4149720"/>
            <a:ext cx="2843280" cy="2131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93" name="Рисунок 6" descr="IMG_1746.JPG"/>
          <p:cNvPicPr/>
          <p:nvPr/>
        </p:nvPicPr>
        <p:blipFill>
          <a:blip r:embed="rId2"/>
          <a:stretch/>
        </p:blipFill>
        <p:spPr>
          <a:xfrm>
            <a:off x="6227640" y="4149720"/>
            <a:ext cx="2784600" cy="208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94" name="Прямоугольник 7"/>
          <p:cNvSpPr/>
          <p:nvPr/>
        </p:nvSpPr>
        <p:spPr>
          <a:xfrm>
            <a:off x="179280" y="2421000"/>
            <a:ext cx="8964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Условия поступл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ез вступительных испыт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  <a:ea typeface="Arial Unicode MS"/>
              </a:rPr>
              <a:t>Трудоустройств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стоматологические клиники (государственные, час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Рисунок 8" descr="DSC_0080.JPG"/>
          <p:cNvPicPr/>
          <p:nvPr/>
        </p:nvPicPr>
        <p:blipFill>
          <a:blip r:embed="rId4"/>
          <a:stretch/>
        </p:blipFill>
        <p:spPr>
          <a:xfrm>
            <a:off x="108000" y="4149720"/>
            <a:ext cx="3203640" cy="2144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96" name="Rectangle 4"/>
          <p:cNvSpPr/>
          <p:nvPr/>
        </p:nvSpPr>
        <p:spPr>
          <a:xfrm>
            <a:off x="179280" y="115920"/>
            <a:ext cx="8785440" cy="230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специаль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ТОМАТОЛОГИЯ ПРОФИЛАКТИЧЕСК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mbria"/>
              </a:rPr>
              <a:t>Квалифик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ГИГИЕНИСТ СТОМАТОЛОГИЧЕ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Обучение  по договору с оплатой стоимости за  обуч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на базе 11-ти классо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Срок обучения – 1 год 10 месяц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3" descr="дети за партами2 -плакат"/>
          <p:cNvPicPr/>
          <p:nvPr/>
        </p:nvPicPr>
        <p:blipFill>
          <a:blip r:embed="rId1"/>
          <a:stretch/>
        </p:blipFill>
        <p:spPr>
          <a:xfrm>
            <a:off x="2124000" y="1276200"/>
            <a:ext cx="4896000" cy="273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8" name="Скругленный прямоугольник 4"/>
          <p:cNvSpPr/>
          <p:nvPr/>
        </p:nvSpPr>
        <p:spPr>
          <a:xfrm>
            <a:off x="108000" y="4149720"/>
            <a:ext cx="903600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я о специальностях колледжа и об условиях поступлени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льяттинский медицинский колледж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сайте колледжа </a:t>
            </a:r>
            <a:r>
              <a:rPr b="1" lang="en-US" sz="4000" spc="-1" strike="noStrike">
                <a:solidFill>
                  <a:srgbClr val="c00000"/>
                </a:solidFill>
                <a:latin typeface="Gill Sans MT"/>
              </a:rPr>
              <a:t>www.tmc-tlt.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Скругленный прямоугольник 5"/>
          <p:cNvSpPr/>
          <p:nvPr/>
        </p:nvSpPr>
        <p:spPr>
          <a:xfrm>
            <a:off x="0" y="0"/>
            <a:ext cx="9144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рием документов для поступления в колле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 20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</a:rPr>
              <a:t>24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году  начинается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17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июня 2024 г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Телефон приёмной комиссии: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8-03-56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Рисунок 5" descr="лицензия.jpg"/>
          <p:cNvPicPr/>
          <p:nvPr/>
        </p:nvPicPr>
        <p:blipFill>
          <a:blip r:embed="rId1"/>
          <a:stretch/>
        </p:blipFill>
        <p:spPr>
          <a:xfrm>
            <a:off x="468360" y="1046160"/>
            <a:ext cx="4103640" cy="53895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Тольяттинский медицинский колледж –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единственное в городе образовательное учреждение, осуществляющее подготовку специалистов со средним медицинским образованием</a:t>
            </a:r>
            <a:endParaRPr b="0" lang="en-US" sz="20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56" name="Рисунок 1" descr=""/>
          <p:cNvPicPr/>
          <p:nvPr/>
        </p:nvPicPr>
        <p:blipFill>
          <a:blip r:embed="rId2"/>
          <a:stretch/>
        </p:blipFill>
        <p:spPr>
          <a:xfrm>
            <a:off x="4572000" y="1096920"/>
            <a:ext cx="3816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ambria"/>
              </a:rPr>
              <a:t>Филиалы  Тольяттинского медицинского колледжа</a:t>
            </a:r>
            <a:endParaRPr b="0" lang="en-US" sz="25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0" y="3284640"/>
            <a:ext cx="478800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Кинель-Черкасский филиал (имеется общежит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арская обла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. Кинель-Черк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пециа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стринское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чебное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ушерское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дицинский массаж (д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иц с ограниченными возможностями по зрени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4788000" y="3284640"/>
            <a:ext cx="43560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Шенталинский фили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общежития н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арская область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енталинский райо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. Шен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Специа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чебное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стринское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Рисунок 5" descr="шент-ф-л-ТМедК - здание.JPG"/>
          <p:cNvPicPr/>
          <p:nvPr/>
        </p:nvPicPr>
        <p:blipFill>
          <a:blip r:embed="rId1"/>
          <a:stretch/>
        </p:blipFill>
        <p:spPr>
          <a:xfrm>
            <a:off x="4788000" y="836640"/>
            <a:ext cx="4211640" cy="2368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1" name="Рисунок 6" descr="IMG_1782.jpg"/>
          <p:cNvPicPr/>
          <p:nvPr/>
        </p:nvPicPr>
        <p:blipFill>
          <a:blip r:embed="rId2"/>
          <a:stretch/>
        </p:blipFill>
        <p:spPr>
          <a:xfrm>
            <a:off x="179280" y="907920"/>
            <a:ext cx="3024360" cy="22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Скругленный прямоугольник 7"/>
          <p:cNvSpPr/>
          <p:nvPr/>
        </p:nvSpPr>
        <p:spPr>
          <a:xfrm>
            <a:off x="2700360" y="476280"/>
            <a:ext cx="6156360" cy="547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305080" cy="30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4" name="Picture 1" descr=""/>
          <p:cNvPicPr/>
          <p:nvPr/>
        </p:nvPicPr>
        <p:blipFill>
          <a:blip r:embed="rId2"/>
          <a:stretch/>
        </p:blipFill>
        <p:spPr>
          <a:xfrm>
            <a:off x="6588000" y="3429000"/>
            <a:ext cx="2268720" cy="302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5" name=""/>
          <p:cNvSpPr txBox="1"/>
          <p:nvPr/>
        </p:nvSpPr>
        <p:spPr>
          <a:xfrm>
            <a:off x="178920" y="3428640"/>
            <a:ext cx="669636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Условия поступления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вступительный экзамен - эссе(зачёт/незач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конкурс аттестатов для бюджетных ме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mbria"/>
              </a:rPr>
              <a:t>Трудоустройство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больницы, поликлиники, диспансе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санатории (государственные, частны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косметологические и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массажные кабине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79280" y="189000"/>
            <a:ext cx="6337440" cy="316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3e5d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СПЕ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ЕСТРИНСКОЕ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mbria"/>
              </a:rPr>
              <a:t>Квалифик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МЕДИЦИНСКАЯ СЕСТРА/ МЕДИЦИНСКИЙ Б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ве формы обучения: очная и очно-за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Обучение бюджетное  (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ВНИМАНИЕ: КОНКУРС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) и по догово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 оплатой стоимости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 базе 9-ти классов –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года 10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 базе 11-ти классов –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</a:rPr>
              <a:t>1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год 10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3205440" cy="246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8" name="Рисунок 6" descr="ЛД 7.jpg"/>
          <p:cNvPicPr/>
          <p:nvPr/>
        </p:nvPicPr>
        <p:blipFill>
          <a:blip r:embed="rId2"/>
          <a:stretch/>
        </p:blipFill>
        <p:spPr>
          <a:xfrm>
            <a:off x="6875640" y="3860640"/>
            <a:ext cx="2127240" cy="282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9" name="Picture 1" descr=""/>
          <p:cNvPicPr/>
          <p:nvPr/>
        </p:nvPicPr>
        <p:blipFill>
          <a:blip r:embed="rId3"/>
          <a:stretch/>
        </p:blipFill>
        <p:spPr>
          <a:xfrm>
            <a:off x="3564000" y="4292640"/>
            <a:ext cx="3168720" cy="237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0" name="Блок-схема: задержка 8"/>
          <p:cNvSpPr/>
          <p:nvPr/>
        </p:nvSpPr>
        <p:spPr>
          <a:xfrm>
            <a:off x="0" y="2205000"/>
            <a:ext cx="5219640" cy="1944720"/>
          </a:xfrm>
          <a:prstGeom prst="flowChartDelay">
            <a:avLst/>
          </a:prstGeom>
          <a:solidFill>
            <a:srgbClr val="dde9ec"/>
          </a:solidFill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словия по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ез вступительных испыт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урс аттес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Трудоустрой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ьницы, поликли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спанс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0"/>
            <a:ext cx="8964720" cy="2349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специаль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Л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АБОРАТОРНАЯ ДИАГНОС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mbria"/>
              </a:rPr>
              <a:t>квалифик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00000"/>
                </a:solidFill>
                <a:latin typeface="Bookman Old Style"/>
                <a:ea typeface="Arial Unicode MS"/>
              </a:rPr>
              <a:t>М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  <a:ea typeface="Arial Unicode MS"/>
              </a:rPr>
              <a:t>ЕДИЦИНСКИЙ ЛАБОРАТОРНЫЙ ТЕХ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Бюджетное обучение  на базе 9-ти клас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рок обучения – </a:t>
            </a: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года 10 месяц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DSC00376"/>
          <p:cNvPicPr/>
          <p:nvPr/>
        </p:nvPicPr>
        <p:blipFill>
          <a:blip r:embed="rId1"/>
          <a:stretch/>
        </p:blipFill>
        <p:spPr>
          <a:xfrm>
            <a:off x="3564000" y="4365720"/>
            <a:ext cx="3095640" cy="232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3" name="Picture 5" descr="324"/>
          <p:cNvPicPr/>
          <p:nvPr/>
        </p:nvPicPr>
        <p:blipFill>
          <a:blip r:embed="rId2"/>
          <a:stretch/>
        </p:blipFill>
        <p:spPr>
          <a:xfrm>
            <a:off x="0" y="4437000"/>
            <a:ext cx="343836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4" name="Прямоугольник 7"/>
          <p:cNvSpPr/>
          <p:nvPr/>
        </p:nvSpPr>
        <p:spPr>
          <a:xfrm>
            <a:off x="0" y="1916280"/>
            <a:ext cx="91440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mbria"/>
                <a:ea typeface="Times New Roman"/>
              </a:rPr>
              <a:t>Условия поступ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вступительный экзамен - эссе(зачёт/незаче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нкурс аттестатов для бюджетных ме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Трудоустрой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структурные подразделения родильных до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городской центр планирования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кабинеты планирования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женские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8" descr="DSCN1366.jpg"/>
          <p:cNvPicPr/>
          <p:nvPr/>
        </p:nvPicPr>
        <p:blipFill>
          <a:blip r:embed="rId8"/>
          <a:stretch/>
        </p:blipFill>
        <p:spPr>
          <a:xfrm>
            <a:off x="6786720" y="3500280"/>
            <a:ext cx="2357280" cy="3143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6" name="Rectangle 4"/>
          <p:cNvSpPr/>
          <p:nvPr/>
        </p:nvSpPr>
        <p:spPr>
          <a:xfrm>
            <a:off x="324000" y="0"/>
            <a:ext cx="8424720" cy="1773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специаль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А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КУШЕРСКОЕ ДЕ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mbria"/>
              </a:rPr>
              <a:t>квалификация: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АКУШЕР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Бюджетное обучение на базе 9-ти клас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Срок обучения  – </a:t>
            </a: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3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года </a:t>
            </a: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6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месяц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411280" y="2852640"/>
            <a:ext cx="3456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mbria"/>
              </a:rPr>
              <a:t>Условия поступле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з вступительных испыт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mbria"/>
              </a:rPr>
              <a:t>Трудоустройство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апте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5" descr="фарм3"/>
          <p:cNvPicPr/>
          <p:nvPr/>
        </p:nvPicPr>
        <p:blipFill>
          <a:blip r:embed="rId1"/>
          <a:stretch/>
        </p:blipFill>
        <p:spPr>
          <a:xfrm>
            <a:off x="5992920" y="2637000"/>
            <a:ext cx="2970000" cy="39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9" name="Rectangle 4"/>
          <p:cNvSpPr/>
          <p:nvPr/>
        </p:nvSpPr>
        <p:spPr>
          <a:xfrm>
            <a:off x="30240" y="115920"/>
            <a:ext cx="90788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специа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Ф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А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mbria"/>
              </a:rPr>
              <a:t>квалификация</a:t>
            </a:r>
            <a:r>
              <a:rPr b="1" i="1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ФАРМАЦЕВ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Обучение  по договору с оплатой стоимости обу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Срок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на базе 9-ти  классов – </a:t>
            </a:r>
            <a:r>
              <a:rPr b="1" lang="en-US" sz="2000" spc="-1" strike="noStrike">
                <a:solidFill>
                  <a:srgbClr val="002060"/>
                </a:solidFill>
                <a:latin typeface="Bookman Old Style"/>
              </a:rPr>
              <a:t>2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года 10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на базе 11-ти  классов – </a:t>
            </a:r>
            <a:r>
              <a:rPr b="1" lang="en-US" sz="2000" spc="-1" strike="noStrike">
                <a:solidFill>
                  <a:srgbClr val="002060"/>
                </a:solidFill>
                <a:latin typeface="Bookman Old Style"/>
              </a:rPr>
              <a:t>1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год 10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6" descr="http://im0-tub-ru.yandex.net/i?id=614108955-67-72&amp;n=21"/>
          <p:cNvPicPr/>
          <p:nvPr/>
        </p:nvPicPr>
        <p:blipFill>
          <a:blip r:embed="rId2"/>
          <a:stretch/>
        </p:blipFill>
        <p:spPr>
          <a:xfrm>
            <a:off x="141120" y="2852640"/>
            <a:ext cx="2124360" cy="1895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81" name="Рисунок 1" descr=""/>
          <p:cNvPicPr/>
          <p:nvPr/>
        </p:nvPicPr>
        <p:blipFill>
          <a:blip r:embed="rId3"/>
          <a:stretch/>
        </p:blipFill>
        <p:spPr>
          <a:xfrm>
            <a:off x="3013200" y="4651200"/>
            <a:ext cx="2916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Скругленный прямоугольник 7"/>
          <p:cNvSpPr/>
          <p:nvPr/>
        </p:nvSpPr>
        <p:spPr>
          <a:xfrm>
            <a:off x="0" y="5805360"/>
            <a:ext cx="9144000" cy="1052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5" descr="IMG_2260"/>
          <p:cNvPicPr/>
          <p:nvPr/>
        </p:nvPicPr>
        <p:blipFill>
          <a:blip r:embed="rId1"/>
          <a:stretch/>
        </p:blipFill>
        <p:spPr>
          <a:xfrm>
            <a:off x="5219640" y="4365720"/>
            <a:ext cx="2665440" cy="1995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84" name="Прямоугольник 7"/>
          <p:cNvSpPr/>
          <p:nvPr/>
        </p:nvSpPr>
        <p:spPr>
          <a:xfrm>
            <a:off x="0" y="2492280"/>
            <a:ext cx="72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словия поступ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тупительный экзамен - эссе(зачёт/незач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урс аттестатов для бюджетных м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Arial Unicode MS"/>
              </a:rPr>
              <a:t>Трудоустрой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станция скор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фельдшерско-акушерские пункты в  сельск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круизные лай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здравпун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редприят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учеб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DSC01969"/>
          <p:cNvPicPr/>
          <p:nvPr/>
        </p:nvPicPr>
        <p:blipFill>
          <a:blip r:embed="rId6"/>
          <a:stretch/>
        </p:blipFill>
        <p:spPr>
          <a:xfrm>
            <a:off x="2411280" y="4365720"/>
            <a:ext cx="2737080" cy="205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86" name="Rectangle 4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специаль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Л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ЕЧЕБНОЕ ДЕЛ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mbria"/>
              </a:rPr>
              <a:t>Квалификация: 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ФЕЛЬДШ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Бюджетное и по договорам  с оплатой стоимост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 базе 11-ти клас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ill Sans MT"/>
              </a:rPr>
              <a:t>C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ок обучения – </a:t>
            </a:r>
            <a:r>
              <a:rPr b="1" lang="en-US" sz="2000" spc="-1" strike="noStrike">
                <a:solidFill>
                  <a:srgbClr val="002060"/>
                </a:solidFill>
                <a:latin typeface="Gill Sans MT"/>
              </a:rPr>
              <a:t>2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года 10 меся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9" descr="DSC06126.JPG"/>
          <p:cNvPicPr/>
          <p:nvPr/>
        </p:nvPicPr>
        <p:blipFill>
          <a:blip r:embed="rId7"/>
          <a:stretch/>
        </p:blipFill>
        <p:spPr>
          <a:xfrm>
            <a:off x="7236000" y="2492280"/>
            <a:ext cx="1746000" cy="2327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!_PB300038"/>
          <p:cNvPicPr/>
          <p:nvPr/>
        </p:nvPicPr>
        <p:blipFill>
          <a:blip r:embed="rId1"/>
          <a:stretch/>
        </p:blipFill>
        <p:spPr>
          <a:xfrm>
            <a:off x="324000" y="4005360"/>
            <a:ext cx="3600360" cy="270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89" name="Прямоугольник 7"/>
          <p:cNvSpPr/>
          <p:nvPr/>
        </p:nvSpPr>
        <p:spPr>
          <a:xfrm>
            <a:off x="-6480" y="2346480"/>
            <a:ext cx="88934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Условия поступл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ступительный экзамен – лепка (зачёт/незачё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нкурс аттес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Трудоустройство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стоматологические клиники (государственные, час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!_PB290024"/>
          <p:cNvPicPr/>
          <p:nvPr/>
        </p:nvPicPr>
        <p:blipFill>
          <a:blip r:embed="rId3"/>
          <a:stretch/>
        </p:blipFill>
        <p:spPr>
          <a:xfrm>
            <a:off x="4067280" y="3998880"/>
            <a:ext cx="3612960" cy="2709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91" name="Rectangle 4"/>
          <p:cNvSpPr/>
          <p:nvPr/>
        </p:nvSpPr>
        <p:spPr>
          <a:xfrm>
            <a:off x="-6480" y="-100080"/>
            <a:ext cx="9144000" cy="191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mbria"/>
              </a:rPr>
              <a:t>специаль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ТОМАТОЛОГИЯ  ОРТОПЕДИЧЕСКА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Cambria"/>
              </a:rPr>
              <a:t>Квалификация: </a:t>
            </a:r>
            <a:r>
              <a:rPr b="1" lang="ru-RU" sz="2200" spc="-1" strike="noStrike">
                <a:solidFill>
                  <a:srgbClr val="c00000"/>
                </a:solidFill>
                <a:latin typeface="Cambria"/>
              </a:rPr>
              <a:t>ЗУБНОЙ ТЕХ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ве формы обучения: очная и очно-за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Обучение  по договорам с оплатой стоимости за  обуче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на базе   11-ти  классов –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1 год 10 месяцев</a:t>
            </a: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(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очна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2 года 10 месяцев (очно-заочна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19</dc:creator>
  <dc:description/>
  <dc:language>en-US</dc:language>
  <cp:lastModifiedBy>user18</cp:lastModifiedBy>
  <dcterms:modified xsi:type="dcterms:W3CDTF">2024-02-28T09:36:17Z</dcterms:modified>
  <cp:revision>217</cp:revision>
  <dc:subject/>
  <dc:title>ПРОГРАММА  ВОСПИТАТЕЛЬНОЙ ДЕЯТЕЛЬНОСТИ  ГОУ СПО ТОЛЬЯТТИНСКИЙ МЕДИЦИНСКИЙ КОЛЛЕДЖ  НА 2010 – 2013 гг.  «ВОСПИТАТЬ ПАТРИОТА - ГРАЖДАНИНА СВОЕЙ СТРАНЫ»</dc:title>
</cp:coreProperties>
</file>